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2F1-7688-49FE-878D-FCFD8813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109-AB98-471A-B93B-A84A5FF5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17C-D388-41F7-B8FB-8284D5CD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268-D49E-466D-AB91-91242FBF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5FB-F6EF-4EB6-B91F-48969987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8579-2357-4ED5-81D0-D3D6E7FE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1B0-FDE5-4B81-8201-3D1404FD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3AD-E871-4510-BABF-26127580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297-3C23-4A44-A846-5625B49E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4296-CFF7-43AE-9A67-8BCE8DC4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659-FF2D-450D-B6A5-6ACE633E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08F-343D-4046-81C8-5412EB57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D664-7D4F-449F-BE64-2348F67A7CC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1"/>
          <p:cNvSpPr/>
          <p:nvPr/>
        </p:nvSpPr>
        <p:spPr>
          <a:xfrm>
            <a:off x="3500280" y="1571760"/>
            <a:ext cx="2124360" cy="2071440"/>
          </a:xfrm>
          <a:prstGeom prst="plus">
            <a:avLst>
              <a:gd name="adj" fmla="val 18282"/>
            </a:avLst>
          </a:prstGeom>
          <a:solidFill>
            <a:srgbClr val="c3d69b"/>
          </a:soli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e5b8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1850 DE AGOSTO 13 DE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12"/>
          <p:cNvSpPr/>
          <p:nvPr/>
        </p:nvSpPr>
        <p:spPr>
          <a:xfrm rot="16200000">
            <a:off x="3565440" y="2363400"/>
            <a:ext cx="1714680" cy="4845240"/>
          </a:xfrm>
          <a:prstGeom prst="can">
            <a:avLst>
              <a:gd name="adj" fmla="val 6342"/>
            </a:avLst>
          </a:prstGeom>
          <a:solidFill>
            <a:srgbClr val="e6e0ec"/>
          </a:solidFill>
          <a:ln w="12600">
            <a:solidFill>
              <a:srgbClr val="4f81bd"/>
            </a:solidFill>
            <a:miter/>
          </a:ln>
          <a:effectLst>
            <a:outerShdw dist="153753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Por  el cual se reglamen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  <a:ea typeface="Arial"/>
              </a:rPr>
              <a:t>la organización de la jornada escolar y la jornada  laboral de directivos docentes y docentes de los establecimientos educativos estatales de educación formal, administrados por los departamentos, distritos y municipios certificados y se dictan otras disposiciones”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11"/>
          <p:cNvSpPr/>
          <p:nvPr/>
        </p:nvSpPr>
        <p:spPr>
          <a:xfrm>
            <a:off x="3500280" y="1571760"/>
            <a:ext cx="2124360" cy="2071440"/>
          </a:xfrm>
          <a:prstGeom prst="plus">
            <a:avLst>
              <a:gd name="adj" fmla="val 18282"/>
            </a:avLst>
          </a:prstGeom>
          <a:solidFill>
            <a:srgbClr val="c3d69b"/>
          </a:soli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e5b8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1850 DE AGOSTO 13 DE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 rot="16200000">
            <a:off x="3565440" y="2363400"/>
            <a:ext cx="1714680" cy="4845240"/>
          </a:xfrm>
          <a:prstGeom prst="can">
            <a:avLst>
              <a:gd name="adj" fmla="val 6342"/>
            </a:avLst>
          </a:prstGeom>
          <a:solidFill>
            <a:srgbClr val="d99694"/>
          </a:solidFill>
          <a:ln w="12600">
            <a:solidFill>
              <a:srgbClr val="4f81bd"/>
            </a:solidFill>
            <a:miter/>
          </a:ln>
          <a:effectLst>
            <a:outerShdw dist="153753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CAPÌTULO I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ACTIVIDADES EDUCATIVAS DE DOCENTES 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DIRECTIVOS DOC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4"/>
          <p:cNvSpPr/>
          <p:nvPr/>
        </p:nvSpPr>
        <p:spPr>
          <a:xfrm>
            <a:off x="214200" y="2428920"/>
            <a:ext cx="2214720" cy="955800"/>
          </a:xfrm>
          <a:prstGeom prst="flowChartTerminator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SIGNACIÒN   ACADÈ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Artículo 5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3705120" y="642960"/>
            <a:ext cx="4938840" cy="2214720"/>
          </a:xfrm>
          <a:prstGeom prst="flowChartPreparation">
            <a:avLst/>
          </a:prstGeom>
          <a:solidFill>
            <a:srgbClr val="fdeada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s  el tiempo que distribuido en periodos de clase, </a:t>
            </a:r>
            <a:r>
              <a:rPr b="1" lang="es-CO" sz="1600" spc="-1" strike="noStrike">
                <a:solidFill>
                  <a:srgbClr val="00b050"/>
                </a:solidFill>
                <a:latin typeface="Arial"/>
              </a:rPr>
              <a:t>dedica el docente a la atención directa de sus estudiantes 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n actividades pedagógicas correspondientes  a las áreas obligatorias y fundamentales y a las asignaturas optativas de conformidad con el plan de estud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3929040" y="4143240"/>
            <a:ext cx="4795920" cy="928800"/>
          </a:xfrm>
          <a:prstGeom prst="flowChartPreparation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los docentes de  educaciòn bàsica primaria 25 horas de clase desarrollando las 9 àreas obligatorias y fundamenta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3929040" y="5214960"/>
            <a:ext cx="4867200" cy="1357200"/>
          </a:xfrm>
          <a:prstGeom prst="flowChartPreparation">
            <a:avLst/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los docentes de educaciòn  bàsica secundaria y educaciòn  media serà  de 22 horas efectivas  de 60 minutos, distribuidas  de acuerdo al  plan de  estud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 rot="20037600">
            <a:off x="1432080" y="1378080"/>
            <a:ext cx="2830320" cy="581040"/>
          </a:xfrm>
          <a:custGeom>
            <a:avLst/>
            <a:gdLst>
              <a:gd name="textAreaLeft" fmla="*/ 414360 w 2830320"/>
              <a:gd name="textAreaRight" fmla="*/ 2415960 w 2830320"/>
              <a:gd name="textAreaTop" fmla="*/ 84960 h 581040"/>
              <a:gd name="textAreaBottom" fmla="*/ 496080 h 5810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28496" dir="3825519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 rot="21288600">
            <a:off x="2469960" y="2803680"/>
            <a:ext cx="1928520" cy="577800"/>
          </a:xfrm>
          <a:custGeom>
            <a:avLst/>
            <a:gdLst>
              <a:gd name="textAreaLeft" fmla="*/ 282240 w 1928520"/>
              <a:gd name="textAreaRight" fmla="*/ 1646280 w 1928520"/>
              <a:gd name="textAreaTop" fmla="*/ 84600 h 577800"/>
              <a:gd name="textAreaBottom" fmla="*/ 493200 h 577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257" y="5399"/>
                  <a:pt x="6059" y="7173"/>
                  <a:pt x="5522" y="9657"/>
                </a:cubicBezTo>
                <a:lnTo>
                  <a:pt x="244" y="8515"/>
                </a:lnTo>
                <a:cubicBezTo>
                  <a:pt x="1319" y="3546"/>
                  <a:pt x="5715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28496" dir="3825519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 rot="2320800">
            <a:off x="1052640" y="4435560"/>
            <a:ext cx="3324240" cy="952560"/>
          </a:xfrm>
          <a:custGeom>
            <a:avLst/>
            <a:gdLst>
              <a:gd name="textAreaLeft" fmla="*/ 613800 w 3324240"/>
              <a:gd name="textAreaRight" fmla="*/ 2420640 w 3324240"/>
              <a:gd name="textAreaTop" fmla="*/ 127440 h 952560"/>
              <a:gd name="textAreaBottom" fmla="*/ 8251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78" hR="21600" stAng="10800000" swAng="-5400000"/>
                <a:lnTo>
                  <a:pt x="11740" y="21600"/>
                </a:lnTo>
                <a:arcTo wR="7978" hR="21600" stAng="5400000" swAng="-2000465"/>
                <a:lnTo>
                  <a:pt x="20579" y="10574"/>
                </a:lnTo>
                <a:lnTo>
                  <a:pt x="17837" y="0"/>
                </a:lnTo>
                <a:lnTo>
                  <a:pt x="13053" y="10574"/>
                </a:lnTo>
                <a:lnTo>
                  <a:pt x="14935" y="10574"/>
                </a:lnTo>
                <a:arcTo wR="7978" hR="21600" stAng="3399535" swAng="1693230"/>
                <a:lnTo>
                  <a:pt x="9859" y="20991"/>
                </a:lnTo>
                <a:arcTo wR="7978" hR="21600" stAng="5707235" swAng="5092765"/>
                <a:close/>
              </a:path>
              <a:path fill="darkenLess" w="21600" h="21600">
                <a:moveTo>
                  <a:pt x="0" y="0"/>
                </a:moveTo>
                <a:arcTo wR="7978" hR="21600" stAng="10800000" swAng="-5400000"/>
                <a:lnTo>
                  <a:pt x="11740" y="21600"/>
                </a:lnTo>
                <a:arcTo wR="7978" hR="21600" stAng="5400000" swAng="307235"/>
                <a:lnTo>
                  <a:pt x="9859" y="20991"/>
                </a:lnTo>
                <a:arcTo wR="7978" hR="21600" stAng="5707235" swAng="5092765"/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4000680" y="3000240"/>
            <a:ext cx="4795560" cy="795600"/>
          </a:xfrm>
          <a:prstGeom prst="flowChartPreparation">
            <a:avLst/>
          </a:prstGeom>
          <a:solidFill>
            <a:srgbClr val="d99694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los docentes de preescolar 20 horas de clase desarrollando las 7 dimensi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 rot="1096800">
            <a:off x="1859040" y="3527280"/>
            <a:ext cx="2440080" cy="906480"/>
          </a:xfrm>
          <a:custGeom>
            <a:avLst/>
            <a:gdLst>
              <a:gd name="textAreaLeft" fmla="*/ 357120 w 2440080"/>
              <a:gd name="textAreaRight" fmla="*/ 2082960 w 2440080"/>
              <a:gd name="textAreaTop" fmla="*/ 132480 h 906480"/>
              <a:gd name="textAreaBottom" fmla="*/ 774000 h 9064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257" y="5399"/>
                  <a:pt x="6059" y="7173"/>
                  <a:pt x="5522" y="9657"/>
                </a:cubicBezTo>
                <a:lnTo>
                  <a:pt x="244" y="8515"/>
                </a:lnTo>
                <a:cubicBezTo>
                  <a:pt x="1319" y="3546"/>
                  <a:pt x="5715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28496" dir="3825519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/>
          <p:cNvSpPr/>
          <p:nvPr/>
        </p:nvSpPr>
        <p:spPr>
          <a:xfrm>
            <a:off x="142920" y="3214800"/>
            <a:ext cx="2214360" cy="107136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SIGNACIÒN   ACADÈ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Artículo 5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643120" y="3286080"/>
            <a:ext cx="1500120" cy="1071720"/>
          </a:xfrm>
          <a:prstGeom prst="rect">
            <a:avLst/>
          </a:prstGeom>
          <a:solidFill>
            <a:srgbClr val="93cdd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CENTE   DEL NIVEL DE PRE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AutoShape 13"/>
          <p:cNvCxnSpPr/>
          <p:nvPr/>
        </p:nvCxnSpPr>
        <p:spPr>
          <a:xfrm>
            <a:off x="2286000" y="3785760"/>
            <a:ext cx="357840" cy="25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105" name="AutoShape 9"/>
          <p:cNvSpPr/>
          <p:nvPr/>
        </p:nvSpPr>
        <p:spPr>
          <a:xfrm>
            <a:off x="4357800" y="1714680"/>
            <a:ext cx="4214880" cy="4857480"/>
          </a:xfrm>
          <a:custGeom>
            <a:avLst/>
            <a:gdLst>
              <a:gd name="textAreaLeft" fmla="*/ 205560 w 4214880"/>
              <a:gd name="textAreaRight" fmla="*/ 4009320 w 4214880"/>
              <a:gd name="textAreaTop" fmla="*/ 205560 h 4857480"/>
              <a:gd name="textAreaBottom" fmla="*/ 4651920 h 4857480"/>
            </a:gdLst>
            <a:ahLst/>
            <a:rect l="textAreaLeft" t="textAreaTop" r="textAreaRight" b="textAreaBottom"/>
            <a:pathLst>
              <a:path w="21600" h="24893">
                <a:moveTo>
                  <a:pt x="3600" y="0"/>
                </a:moveTo>
                <a:arcTo wR="3600" hR="3600" stAng="16200000" swAng="-5400000"/>
                <a:lnTo>
                  <a:pt x="0" y="21293"/>
                </a:lnTo>
                <a:arcTo wR="3600" hR="3600" stAng="10800000" swAng="-5400000"/>
                <a:lnTo>
                  <a:pt x="18000" y="248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b9b8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Arial"/>
              </a:rPr>
              <a:t>GRADO  DE TRANSICIÒ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7 DIMENSIONES         </a:t>
            </a: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SOCIOAFEC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CORPO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COMUNICA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COGNI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ÈT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STETICA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ESPIRITU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20  HORAS  SEMA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AutoShape 13"/>
          <p:cNvCxnSpPr/>
          <p:nvPr/>
        </p:nvCxnSpPr>
        <p:spPr>
          <a:xfrm>
            <a:off x="6071040" y="3071520"/>
            <a:ext cx="429480" cy="2215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7" name="AutoShape 13"/>
          <p:cNvCxnSpPr/>
          <p:nvPr/>
        </p:nvCxnSpPr>
        <p:spPr>
          <a:xfrm>
            <a:off x="6071040" y="3142800"/>
            <a:ext cx="429480" cy="17866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8" name="AutoShape 13"/>
          <p:cNvCxnSpPr/>
          <p:nvPr/>
        </p:nvCxnSpPr>
        <p:spPr>
          <a:xfrm>
            <a:off x="6072120" y="3071520"/>
            <a:ext cx="357840" cy="1447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9" name="AutoShape 13"/>
          <p:cNvCxnSpPr/>
          <p:nvPr/>
        </p:nvCxnSpPr>
        <p:spPr>
          <a:xfrm>
            <a:off x="6071040" y="3071520"/>
            <a:ext cx="429480" cy="5007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10" name="AutoShape 13"/>
          <p:cNvCxnSpPr/>
          <p:nvPr/>
        </p:nvCxnSpPr>
        <p:spPr>
          <a:xfrm>
            <a:off x="6071040" y="3142800"/>
            <a:ext cx="429480" cy="14295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11" name="AutoShape 13"/>
          <p:cNvCxnSpPr/>
          <p:nvPr/>
        </p:nvCxnSpPr>
        <p:spPr>
          <a:xfrm>
            <a:off x="6071040" y="3142800"/>
            <a:ext cx="429480" cy="7153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12" name="AutoShape 13"/>
          <p:cNvCxnSpPr/>
          <p:nvPr/>
        </p:nvCxnSpPr>
        <p:spPr>
          <a:xfrm>
            <a:off x="6071040" y="3071880"/>
            <a:ext cx="429480" cy="1072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13" name="AutoShape 13"/>
          <p:cNvCxnSpPr/>
          <p:nvPr/>
        </p:nvCxnSpPr>
        <p:spPr>
          <a:xfrm flipV="1">
            <a:off x="4071960" y="3785400"/>
            <a:ext cx="28656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4"/>
          <p:cNvSpPr/>
          <p:nvPr/>
        </p:nvSpPr>
        <p:spPr>
          <a:xfrm>
            <a:off x="142920" y="3071880"/>
            <a:ext cx="2214360" cy="13572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SIGNACIÒN   ACADÈ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Artículo 5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571840" y="3357720"/>
            <a:ext cx="1385640" cy="928440"/>
          </a:xfrm>
          <a:prstGeom prst="rect">
            <a:avLst/>
          </a:prstGeom>
          <a:solidFill>
            <a:srgbClr val="fac09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 DE EDUCACIÒN BÀSICA PRIM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13"/>
          <p:cNvCxnSpPr/>
          <p:nvPr/>
        </p:nvCxnSpPr>
        <p:spPr>
          <a:xfrm>
            <a:off x="2286000" y="3857760"/>
            <a:ext cx="35784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17" name="AutoShape 13"/>
          <p:cNvCxnSpPr>
            <a:stCxn id="115" idx="0"/>
          </p:cNvCxnSpPr>
          <p:nvPr/>
        </p:nvCxnSpPr>
        <p:spPr>
          <a:xfrm flipV="1">
            <a:off x="3262680" y="2285280"/>
            <a:ext cx="880200" cy="10724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18" name="AutoShape 13"/>
          <p:cNvCxnSpPr>
            <a:stCxn id="115" idx="2"/>
          </p:cNvCxnSpPr>
          <p:nvPr/>
        </p:nvCxnSpPr>
        <p:spPr>
          <a:xfrm>
            <a:off x="3262680" y="4286160"/>
            <a:ext cx="902520" cy="559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119" name="AutoShape 9"/>
          <p:cNvSpPr/>
          <p:nvPr/>
        </p:nvSpPr>
        <p:spPr>
          <a:xfrm>
            <a:off x="4071960" y="500040"/>
            <a:ext cx="4714920" cy="600084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6000840"/>
              <a:gd name="textAreaBottom" fmla="*/ 5770800 h 6000840"/>
            </a:gdLst>
            <a:ahLst/>
            <a:rect l="textAreaLeft" t="textAreaTop" r="textAreaRight" b="textAreaBottom"/>
            <a:pathLst>
              <a:path w="21600" h="27491">
                <a:moveTo>
                  <a:pt x="3600" y="0"/>
                </a:moveTo>
                <a:arcTo wR="3600" hR="3600" stAng="16200000" swAng="-5400000"/>
                <a:lnTo>
                  <a:pt x="0" y="23891"/>
                </a:lnTo>
                <a:arcTo wR="3600" hR="3600" stAng="10800000" swAng="-5400000"/>
                <a:lnTo>
                  <a:pt x="18000" y="27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3d69b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CO" sz="1200" spc="-1" strike="noStrike">
                <a:solidFill>
                  <a:srgbClr val="ff0000"/>
                </a:solidFill>
                <a:latin typeface="Arial"/>
              </a:rPr>
              <a:t>GRADOS DE 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200" spc="-1" strike="noStrike">
                <a:solidFill>
                  <a:srgbClr val="ff0000"/>
                </a:solidFill>
                <a:latin typeface="Arial"/>
              </a:rPr>
              <a:t>1º  A  5º 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DESARROLLANDO LAS 9 ÀREAS OBLIGATORIAS Y FUNDAMENT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.Ciencias naturales y educación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.Ciencias sociales, historia, geografía, constit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olítica y democra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3.Educación art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4. Educación ética y en valores huma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 Educación física, recreación y depor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6.Educación religi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7.Humanidades, lengua castellana e idiomas extranj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8.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9.Tecnología e Inform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ptativ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5  HORAS  SEMA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2643120" y="3500280"/>
            <a:ext cx="1386000" cy="92880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 DE EDUCACIÒN BÀSICA  SECUN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3"/>
          <p:cNvCxnSpPr/>
          <p:nvPr/>
        </p:nvCxnSpPr>
        <p:spPr>
          <a:xfrm>
            <a:off x="2286000" y="3857760"/>
            <a:ext cx="35784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22" name="AutoShape 13"/>
          <p:cNvCxnSpPr>
            <a:stCxn id="120" idx="0"/>
          </p:cNvCxnSpPr>
          <p:nvPr/>
        </p:nvCxnSpPr>
        <p:spPr>
          <a:xfrm flipV="1">
            <a:off x="3335760" y="2285280"/>
            <a:ext cx="878760" cy="12150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23" name="AutoShape 13"/>
          <p:cNvCxnSpPr>
            <a:stCxn id="120" idx="2"/>
          </p:cNvCxnSpPr>
          <p:nvPr/>
        </p:nvCxnSpPr>
        <p:spPr>
          <a:xfrm>
            <a:off x="3334320" y="4428720"/>
            <a:ext cx="902520" cy="4165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124" name="AutoShape 9"/>
          <p:cNvSpPr/>
          <p:nvPr/>
        </p:nvSpPr>
        <p:spPr>
          <a:xfrm>
            <a:off x="4071960" y="500040"/>
            <a:ext cx="4714920" cy="578664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786640"/>
              <a:gd name="textAreaBottom" fmla="*/ 5556600 h 5786640"/>
            </a:gdLst>
            <a:ahLst/>
            <a:rect l="textAreaLeft" t="textAreaTop" r="textAreaRight" b="textAreaBottom"/>
            <a:pathLst>
              <a:path w="21600" h="26509">
                <a:moveTo>
                  <a:pt x="3600" y="0"/>
                </a:moveTo>
                <a:arcTo wR="3600" hR="3600" stAng="16200000" swAng="-5400000"/>
                <a:lnTo>
                  <a:pt x="0" y="22909"/>
                </a:lnTo>
                <a:arcTo wR="3600" hR="3600" stAng="10800000" swAng="-5400000"/>
                <a:lnTo>
                  <a:pt x="18000" y="265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b9b8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200" spc="-1" strike="noStrike">
                <a:solidFill>
                  <a:srgbClr val="ff0000"/>
                </a:solidFill>
                <a:latin typeface="Arial"/>
              </a:rPr>
              <a:t>GRADOS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200" spc="-1" strike="noStrike">
                <a:solidFill>
                  <a:srgbClr val="ff0000"/>
                </a:solidFill>
                <a:latin typeface="Arial"/>
              </a:rPr>
              <a:t>6º  A  9º 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DESARROLLANDO LAS 9 ÀREAS OBLIGATORIAS Y FUNDAM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.Ciencias naturales y educación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.Ciencias sociales, historia, geografía, constitu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olítica y democra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3.Educación art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4. Educación ética y en valores huma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 Educación física, recreación y depor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6.Educación religi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7.Humanidades, lengua castellana e idiomas extranj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8.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9.Tecnología e Inform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ptativ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2  HORAS  SEMA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357120" y="3214800"/>
            <a:ext cx="2000160" cy="13572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SIGNACIÒN   ACADÈ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Artículo 5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2643120" y="3357720"/>
            <a:ext cx="1386000" cy="107136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 DE EDUCACIÒN BÀSICA Y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13"/>
          <p:cNvCxnSpPr/>
          <p:nvPr/>
        </p:nvCxnSpPr>
        <p:spPr>
          <a:xfrm>
            <a:off x="2357280" y="3857760"/>
            <a:ext cx="28656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28" name="AutoShape 13"/>
          <p:cNvCxnSpPr/>
          <p:nvPr/>
        </p:nvCxnSpPr>
        <p:spPr>
          <a:xfrm flipV="1">
            <a:off x="3357720" y="1571040"/>
            <a:ext cx="1072080" cy="17866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29" name="AutoShape 13"/>
          <p:cNvCxnSpPr/>
          <p:nvPr/>
        </p:nvCxnSpPr>
        <p:spPr>
          <a:xfrm>
            <a:off x="3357720" y="4500360"/>
            <a:ext cx="1000800" cy="15721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130" name="AutoShape 9"/>
          <p:cNvSpPr/>
          <p:nvPr/>
        </p:nvSpPr>
        <p:spPr>
          <a:xfrm>
            <a:off x="4143240" y="285840"/>
            <a:ext cx="4786560" cy="6357960"/>
          </a:xfrm>
          <a:custGeom>
            <a:avLst/>
            <a:gdLst>
              <a:gd name="textAreaLeft" fmla="*/ 233640 w 4786560"/>
              <a:gd name="textAreaRight" fmla="*/ 4552920 w 4786560"/>
              <a:gd name="textAreaTop" fmla="*/ 233640 h 6357960"/>
              <a:gd name="textAreaBottom" fmla="*/ 6124320 h 6357960"/>
            </a:gdLst>
            <a:ahLst/>
            <a:rect l="textAreaLeft" t="textAreaTop" r="textAreaRight" b="textAreaBottom"/>
            <a:pathLst>
              <a:path w="21600" h="28691">
                <a:moveTo>
                  <a:pt x="3600" y="0"/>
                </a:moveTo>
                <a:arcTo wR="3600" hR="3600" stAng="16200000" swAng="-5400000"/>
                <a:lnTo>
                  <a:pt x="0" y="25091"/>
                </a:lnTo>
                <a:arcTo wR="3600" hR="3600" stAng="10800000" swAng="-5400000"/>
                <a:lnTo>
                  <a:pt x="18000" y="286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c090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ff0000"/>
                </a:solidFill>
                <a:latin typeface="Arial"/>
              </a:rPr>
              <a:t>EDUCACIÒN MEDIA ACADÈMICA, TÈC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ff0000"/>
                </a:solidFill>
                <a:latin typeface="Arial"/>
              </a:rPr>
              <a:t>GRADOS 10º Y 11º  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DESARROLLANDO 12 À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.Ciencias naturales y educación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.Ciencias sociales, historia, geografía, constitución política y democra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3.Educación art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4. Educación ética y en valores huma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5. Educación física, recreación y depor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6.Educación religi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7.Humanidades, lengua castellana e idiomas extranje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8.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9.Tecnología e Inform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0. Filosof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iencias 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12.Ciencias económ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Opt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Técn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22  HORAS  SEMA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357120" y="3214800"/>
            <a:ext cx="2000160" cy="13572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SIGNACIÒN   ACADÈ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Artículo 5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4"/>
          <p:cNvSpPr/>
          <p:nvPr/>
        </p:nvSpPr>
        <p:spPr>
          <a:xfrm>
            <a:off x="357120" y="2643120"/>
            <a:ext cx="3414960" cy="914400"/>
          </a:xfrm>
          <a:prstGeom prst="ellipse">
            <a:avLst/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RVICIO DE ORIENTACIÒN 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Artículo 6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 rot="20439600">
            <a:off x="1969920" y="1539720"/>
            <a:ext cx="2508480" cy="673200"/>
          </a:xfrm>
          <a:custGeom>
            <a:avLst/>
            <a:gdLst>
              <a:gd name="textAreaLeft" fmla="*/ 467640 w 2508480"/>
              <a:gd name="textAreaRight" fmla="*/ 1828440 w 2508480"/>
              <a:gd name="textAreaTop" fmla="*/ 90000 h 673200"/>
              <a:gd name="textAreaBottom" fmla="*/ 583200 h 673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58" hR="21600" stAng="10800000" swAng="5400000"/>
                <a:lnTo>
                  <a:pt x="11714" y="0"/>
                </a:lnTo>
                <a:arcTo wR="8058" hR="21600" stAng="-5400000" swAng="2466724"/>
                <a:lnTo>
                  <a:pt x="20951" y="13110"/>
                </a:lnTo>
                <a:lnTo>
                  <a:pt x="17944" y="21600"/>
                </a:lnTo>
                <a:lnTo>
                  <a:pt x="13639" y="13110"/>
                </a:lnTo>
                <a:lnTo>
                  <a:pt x="15467" y="13110"/>
                </a:lnTo>
                <a:arcTo wR="8058" hR="21600" stAng="-2933276" swAng="-2168749"/>
                <a:lnTo>
                  <a:pt x="9886" y="563"/>
                </a:lnTo>
                <a:arcTo wR="8058" hR="21600" stAng="-5697975" swAng="-5102025"/>
                <a:close/>
              </a:path>
              <a:path fill="darkenLess" w="21600" h="21600">
                <a:moveTo>
                  <a:pt x="0" y="21600"/>
                </a:moveTo>
                <a:arcTo wR="8058" hR="21600" stAng="10800000" swAng="5400000"/>
                <a:lnTo>
                  <a:pt x="8058" y="0"/>
                </a:lnTo>
                <a:arcTo wR="8058" hR="21600" stAng="-5400000" swAng="297975"/>
                <a:lnTo>
                  <a:pt x="9886" y="563"/>
                </a:lnTo>
                <a:arcTo wR="8058" hR="21600" stAng="-5697975" swAng="-5102025"/>
                <a:close/>
              </a:path>
            </a:pathLst>
          </a:custGeom>
          <a:solidFill>
            <a:srgbClr val="fac09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4429080" y="1214280"/>
            <a:ext cx="4286160" cy="30718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TODOS LOS DIRECTIVOS DOCENTES Y LOS DOCENTES DEBEN BRINDAR ORIENTACIÒN A SUS ESTUDIANTES, EN FORMA GRUPAL O INDIVIDUAL, CON EL PROPÒSITO DE CONTRIBUIR A SU FORMACIÒN INTEGRAL, SIN QUE LA DIRECCIÒN DE GRUPO IMPLIQUE  PARA EL DOCENTE DE SECUNDARIA Y MEDIA UNA DISMINUCIÒN DE SU ASIGNACIÒN DE 22 HORAS EFECTIVAS SEMAN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 rot="10800000">
            <a:off x="1642680" y="3642840"/>
            <a:ext cx="2714760" cy="723960"/>
          </a:xfrm>
          <a:custGeom>
            <a:avLst/>
            <a:gdLst>
              <a:gd name="textAreaLeft" fmla="*/ 507240 w 2714760"/>
              <a:gd name="textAreaRight" fmla="*/ 1979280 w 2714760"/>
              <a:gd name="textAreaTop" fmla="*/ 96840 h 723960"/>
              <a:gd name="textAreaBottom" fmla="*/ 6271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75" hR="21600" stAng="10800000" swAng="5400000"/>
                <a:lnTo>
                  <a:pt x="11709" y="0"/>
                </a:lnTo>
                <a:arcTo wR="8075" hR="21600" stAng="-5400000" swAng="2795864"/>
                <a:lnTo>
                  <a:pt x="21138" y="14400"/>
                </a:lnTo>
                <a:lnTo>
                  <a:pt x="17967" y="21600"/>
                </a:lnTo>
                <a:lnTo>
                  <a:pt x="13872" y="14400"/>
                </a:lnTo>
                <a:lnTo>
                  <a:pt x="15688" y="14400"/>
                </a:lnTo>
                <a:arcTo wR="8075" hR="21600" stAng="-2604136" swAng="-2499802"/>
                <a:lnTo>
                  <a:pt x="9892" y="554"/>
                </a:lnTo>
                <a:arcTo wR="8075" hR="21600" stAng="-5696062" swAng="-5103938"/>
                <a:close/>
              </a:path>
              <a:path fill="darkenLess" w="21600" h="21600">
                <a:moveTo>
                  <a:pt x="0" y="21600"/>
                </a:moveTo>
                <a:arcTo wR="8075" hR="21600" stAng="10800000" swAng="5400000"/>
                <a:lnTo>
                  <a:pt x="8075" y="0"/>
                </a:lnTo>
                <a:arcTo wR="8075" hR="21600" stAng="-5400000" swAng="296062"/>
                <a:lnTo>
                  <a:pt x="9892" y="554"/>
                </a:lnTo>
                <a:arcTo wR="8075" hR="21600" stAng="-5696062" swAng="-5103938"/>
                <a:close/>
              </a:path>
            </a:pathLst>
          </a:custGeom>
          <a:solidFill>
            <a:srgbClr val="fac09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Oval 4"/>
          <p:cNvSpPr/>
          <p:nvPr/>
        </p:nvSpPr>
        <p:spPr>
          <a:xfrm>
            <a:off x="142920" y="2357280"/>
            <a:ext cx="2857320" cy="1357560"/>
          </a:xfrm>
          <a:prstGeom prst="ellipse">
            <a:avLst/>
          </a:prstGeom>
          <a:solidFill>
            <a:srgbClr val="fcd5b5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STRIBUCIÒN DE ACTIVIDADES DE LOS DOC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rtìculo 7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 rot="18925200">
            <a:off x="482760" y="722160"/>
            <a:ext cx="2768400" cy="795600"/>
          </a:xfrm>
          <a:custGeom>
            <a:avLst/>
            <a:gdLst>
              <a:gd name="textAreaLeft" fmla="*/ 504000 w 2768400"/>
              <a:gd name="textAreaRight" fmla="*/ 2013840 w 2768400"/>
              <a:gd name="textAreaTop" fmla="*/ 106560 h 795600"/>
              <a:gd name="textAreaBottom" fmla="*/ 689040 h 79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65" hR="21600" stAng="10800000" swAng="5400000"/>
                <a:lnTo>
                  <a:pt x="11779" y="0"/>
                </a:lnTo>
                <a:arcTo wR="7865" hR="21600" stAng="-5400000" swAng="2750504"/>
                <a:lnTo>
                  <a:pt x="21150" y="14400"/>
                </a:lnTo>
                <a:lnTo>
                  <a:pt x="17686" y="21600"/>
                </a:lnTo>
                <a:lnTo>
                  <a:pt x="13322" y="14400"/>
                </a:lnTo>
                <a:lnTo>
                  <a:pt x="15279" y="14400"/>
                </a:lnTo>
                <a:arcTo wR="7865" hR="21600" stAng="-2649496" swAng="-2429856"/>
                <a:lnTo>
                  <a:pt x="9822" y="679"/>
                </a:lnTo>
                <a:arcTo wR="7865" hR="21600" stAng="-5720649" swAng="-5079351"/>
                <a:close/>
              </a:path>
              <a:path fill="darkenLess" w="21600" h="21600">
                <a:moveTo>
                  <a:pt x="0" y="21600"/>
                </a:moveTo>
                <a:arcTo wR="7865" hR="21600" stAng="10800000" swAng="5400000"/>
                <a:lnTo>
                  <a:pt x="7865" y="0"/>
                </a:lnTo>
                <a:arcTo wR="7865" hR="21600" stAng="-5400000" swAng="320649"/>
                <a:lnTo>
                  <a:pt x="9822" y="679"/>
                </a:lnTo>
                <a:arcTo wR="7865" hR="21600" stAng="-5720649" swAng="-5079351"/>
                <a:close/>
              </a:path>
            </a:pathLst>
          </a:custGeom>
          <a:solidFill>
            <a:srgbClr val="f2dcd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3000240" y="214200"/>
            <a:ext cx="4286520" cy="128592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 EL DESARROLL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 SEMANAS LECTIVAS DE TRABAJO  ACADÈMICO CON LOS ESTUDI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DAS EN EL CALENDARIO ACADÈMICO EL RECTOR/ DIRECTOR RURAL FIJARÀ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 rot="5159400">
            <a:off x="6445800" y="881640"/>
            <a:ext cx="2508120" cy="795240"/>
          </a:xfrm>
          <a:custGeom>
            <a:avLst/>
            <a:gdLst>
              <a:gd name="textAreaLeft" fmla="*/ 438840 w 2508120"/>
              <a:gd name="textAreaRight" fmla="*/ 1818360 w 250812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2dcd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3357720" y="4071960"/>
            <a:ext cx="4286160" cy="17859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DISCRIMINANDO ELTIEMPO DEDICADO AL CUMPLIMIENTO 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ASIGNACIÒN ACADÈM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Y A LAS ACTIVIDADES CURRICULARES COMPLEMENT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3429000" y="2143080"/>
            <a:ext cx="4071960" cy="50004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HORARIO DE CADA DOC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3429000" y="3071880"/>
            <a:ext cx="4286160" cy="6429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DISTRIBUIDO PARA CADA DIA DE LA SEM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 rot="5829000">
            <a:off x="7058160" y="2212200"/>
            <a:ext cx="2508480" cy="890280"/>
          </a:xfrm>
          <a:custGeom>
            <a:avLst/>
            <a:gdLst>
              <a:gd name="textAreaLeft" fmla="*/ 416160 w 2508480"/>
              <a:gd name="textAreaRight" fmla="*/ 1811160 w 2508480"/>
              <a:gd name="textAreaTop" fmla="*/ 119160 h 890280"/>
              <a:gd name="textAreaBottom" fmla="*/ 771120 h 890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172" hR="21600" stAng="10800000" swAng="5400000"/>
                <a:lnTo>
                  <a:pt x="12009" y="0"/>
                </a:lnTo>
                <a:arcTo wR="7172" hR="21600" stAng="-5400000" swAng="2592146"/>
                <a:lnTo>
                  <a:pt x="21190" y="14400"/>
                </a:lnTo>
                <a:lnTo>
                  <a:pt x="16763" y="21600"/>
                </a:lnTo>
                <a:lnTo>
                  <a:pt x="11515" y="14400"/>
                </a:lnTo>
                <a:lnTo>
                  <a:pt x="13934" y="14400"/>
                </a:lnTo>
                <a:arcTo wR="7172" hR="21600" stAng="-2807854" swAng="-2185194"/>
                <a:lnTo>
                  <a:pt x="9591" y="1265"/>
                </a:lnTo>
                <a:arcTo wR="7172" hR="21600" stAng="-5806953" swAng="-4993047"/>
                <a:close/>
              </a:path>
              <a:path fill="darkenLess" w="21600" h="21600">
                <a:moveTo>
                  <a:pt x="0" y="21600"/>
                </a:moveTo>
                <a:arcTo wR="7172" hR="21600" stAng="10800000" swAng="5400000"/>
                <a:lnTo>
                  <a:pt x="7172" y="0"/>
                </a:lnTo>
                <a:arcTo wR="7172" hR="21600" stAng="-5400000" swAng="406953"/>
                <a:lnTo>
                  <a:pt x="9591" y="1265"/>
                </a:lnTo>
                <a:arcTo wR="7172" hR="21600" stAng="-5806953" swAng="-4993047"/>
                <a:close/>
              </a:path>
            </a:pathLst>
          </a:custGeom>
          <a:solidFill>
            <a:srgbClr val="f2dcd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 rot="6588000">
            <a:off x="7089840" y="4131360"/>
            <a:ext cx="2508480" cy="795240"/>
          </a:xfrm>
          <a:custGeom>
            <a:avLst/>
            <a:gdLst>
              <a:gd name="textAreaLeft" fmla="*/ 438840 w 2508480"/>
              <a:gd name="textAreaRight" fmla="*/ 1818720 w 250848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2dcd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4"/>
          <p:cNvSpPr/>
          <p:nvPr/>
        </p:nvSpPr>
        <p:spPr>
          <a:xfrm>
            <a:off x="2000160" y="1571760"/>
            <a:ext cx="5429520" cy="1143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 EL TIEMPO DEDICADO POR LOS DIRECTIVOS DOCENTES Y DOCENTES DURANTE   LAS 5 SEMANAS ESTABLECIDAS  EN EL CALENDARIO ACADÈ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AutoShape 11"/>
          <p:cNvCxnSpPr/>
          <p:nvPr/>
        </p:nvCxnSpPr>
        <p:spPr>
          <a:xfrm flipH="1" flipV="1">
            <a:off x="1571400" y="2928600"/>
            <a:ext cx="621576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47" name="AutoShape 12"/>
          <p:cNvCxnSpPr/>
          <p:nvPr/>
        </p:nvCxnSpPr>
        <p:spPr>
          <a:xfrm flipH="1" flipV="1">
            <a:off x="4571280" y="2714040"/>
            <a:ext cx="1080" cy="2149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48" name="AutoShape 13"/>
          <p:cNvCxnSpPr/>
          <p:nvPr/>
        </p:nvCxnSpPr>
        <p:spPr>
          <a:xfrm flipH="1">
            <a:off x="7786440" y="2928960"/>
            <a:ext cx="2160" cy="7149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49" name="AutoShape 12"/>
          <p:cNvCxnSpPr/>
          <p:nvPr/>
        </p:nvCxnSpPr>
        <p:spPr>
          <a:xfrm flipH="1">
            <a:off x="6357600" y="2928960"/>
            <a:ext cx="2160" cy="7149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50" name="AutoShape 12"/>
          <p:cNvCxnSpPr/>
          <p:nvPr/>
        </p:nvCxnSpPr>
        <p:spPr>
          <a:xfrm flipV="1">
            <a:off x="4572000" y="2928600"/>
            <a:ext cx="2160" cy="7149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51" name="AutoShape 12"/>
          <p:cNvCxnSpPr/>
          <p:nvPr/>
        </p:nvCxnSpPr>
        <p:spPr>
          <a:xfrm flipV="1">
            <a:off x="1568880" y="2928240"/>
            <a:ext cx="2520" cy="7880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52" name="AutoShape 12"/>
          <p:cNvCxnSpPr/>
          <p:nvPr/>
        </p:nvCxnSpPr>
        <p:spPr>
          <a:xfrm flipV="1">
            <a:off x="2857680" y="2928600"/>
            <a:ext cx="2160" cy="7149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153" name="AutoShape 4"/>
          <p:cNvSpPr/>
          <p:nvPr/>
        </p:nvSpPr>
        <p:spPr>
          <a:xfrm>
            <a:off x="2000160" y="714240"/>
            <a:ext cx="5286600" cy="642960"/>
          </a:xfrm>
          <a:prstGeom prst="roundRect">
            <a:avLst>
              <a:gd name="adj" fmla="val 48088"/>
            </a:avLst>
          </a:prstGeom>
          <a:solidFill>
            <a:srgbClr val="fcd5b5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IVIDADES DE DESARROLLO INSTITU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rtículo 8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571680" y="3714840"/>
            <a:ext cx="1785600" cy="2428920"/>
          </a:xfrm>
          <a:custGeom>
            <a:avLst/>
            <a:gdLst>
              <a:gd name="textAreaLeft" fmla="*/ 87120 w 1785600"/>
              <a:gd name="textAreaRight" fmla="*/ 1698480 w 1785600"/>
              <a:gd name="textAreaTop" fmla="*/ 87120 h 2428920"/>
              <a:gd name="textAreaBottom" fmla="*/ 2341800 h 2428920"/>
            </a:gdLst>
            <a:ahLst/>
            <a:rect l="textAreaLeft" t="textAreaTop" r="textAreaRight" b="textAreaBottom"/>
            <a:pathLst>
              <a:path w="21600" h="29381">
                <a:moveTo>
                  <a:pt x="3600" y="0"/>
                </a:moveTo>
                <a:arcTo wR="3600" hR="3600" stAng="16200000" swAng="-5400000"/>
                <a:lnTo>
                  <a:pt x="0" y="25781"/>
                </a:lnTo>
                <a:arcTo wR="3600" hR="3600" stAng="10800000" swAng="-5400000"/>
                <a:lnTo>
                  <a:pt x="18000" y="293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dcd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ULACIÒ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ALUACIÒ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SIÒN O AJU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2143080" y="3643200"/>
            <a:ext cx="1857600" cy="2500560"/>
          </a:xfrm>
          <a:custGeom>
            <a:avLst/>
            <a:gdLst>
              <a:gd name="textAreaLeft" fmla="*/ 90360 w 1857600"/>
              <a:gd name="textAreaRight" fmla="*/ 1767240 w 1857600"/>
              <a:gd name="textAreaTop" fmla="*/ 90360 h 2500560"/>
              <a:gd name="textAreaBottom" fmla="*/ 2410200 h 2500560"/>
            </a:gdLst>
            <a:ahLst/>
            <a:rect l="textAreaLeft" t="textAreaTop" r="textAreaRight" b="textAreaBottom"/>
            <a:pathLst>
              <a:path w="21600" h="29075">
                <a:moveTo>
                  <a:pt x="3600" y="0"/>
                </a:moveTo>
                <a:arcTo wR="3600" hR="3600" stAng="16200000" swAng="-5400000"/>
                <a:lnTo>
                  <a:pt x="0" y="25475"/>
                </a:lnTo>
                <a:arcTo wR="3600" hR="3600" stAng="10800000" swAng="-5400000"/>
                <a:lnTo>
                  <a:pt x="18000" y="29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eada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ABORACIÒ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ALUACIÒ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 DE ESTUD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3857760" y="3643200"/>
            <a:ext cx="1785960" cy="242892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2428920"/>
              <a:gd name="textAreaBottom" fmla="*/ 2341800 h 2428920"/>
            </a:gdLst>
            <a:ahLst/>
            <a:rect l="textAreaLeft" t="textAreaTop" r="textAreaRight" b="textAreaBottom"/>
            <a:pathLst>
              <a:path w="21600" h="29375">
                <a:moveTo>
                  <a:pt x="3600" y="0"/>
                </a:moveTo>
                <a:arcTo wR="3600" hR="3600" stAng="16200000" swAng="-5400000"/>
                <a:lnTo>
                  <a:pt x="0" y="25775"/>
                </a:lnTo>
                <a:arcTo wR="3600" hR="3600" stAng="10800000" swAng="-5400000"/>
                <a:lnTo>
                  <a:pt x="18000" y="293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6b9b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EVALUACIÒN INSTITUCIONAL 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5572080" y="3714840"/>
            <a:ext cx="1785960" cy="228600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2286000"/>
              <a:gd name="textAreaBottom" fmla="*/ 2198880 h 2286000"/>
            </a:gdLst>
            <a:ahLst/>
            <a:rect l="textAreaLeft" t="textAreaTop" r="textAreaRight" b="textAreaBottom"/>
            <a:pathLst>
              <a:path w="21600" h="27646">
                <a:moveTo>
                  <a:pt x="3600" y="0"/>
                </a:moveTo>
                <a:arcTo wR="3600" hR="3600" stAng="16200000" swAng="-5400000"/>
                <a:lnTo>
                  <a:pt x="0" y="24046"/>
                </a:lnTo>
                <a:arcTo wR="3600" hR="3600" stAng="10800000" swAng="-5400000"/>
                <a:lnTo>
                  <a:pt x="18000" y="276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dcd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INVESTIGACIÒ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ACTUALIZACIÒN PEDAGÒ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7215120" y="3500280"/>
            <a:ext cx="1714680" cy="2571840"/>
          </a:xfrm>
          <a:custGeom>
            <a:avLst/>
            <a:gdLst>
              <a:gd name="textAreaLeft" fmla="*/ 83520 w 1714680"/>
              <a:gd name="textAreaRight" fmla="*/ 1631160 w 1714680"/>
              <a:gd name="textAreaTop" fmla="*/ 83520 h 2571840"/>
              <a:gd name="textAreaBottom" fmla="*/ 2488320 h 2571840"/>
            </a:gdLst>
            <a:ahLst/>
            <a:rect l="textAreaLeft" t="textAreaTop" r="textAreaRight" b="textAreaBottom"/>
            <a:pathLst>
              <a:path w="21600" h="32395">
                <a:moveTo>
                  <a:pt x="3600" y="0"/>
                </a:moveTo>
                <a:arcTo wR="3600" hR="3600" stAng="16200000" swAng="-5400000"/>
                <a:lnTo>
                  <a:pt x="0" y="28795"/>
                </a:lnTo>
                <a:arcTo wR="3600" hR="3600" stAng="10800000" swAng="-5400000"/>
                <a:lnTo>
                  <a:pt x="18000" y="32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d5b5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OTRAS ACTIVIDADES DE COORDINACIÒ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CON ORGANISMOS  O INSTITUCIONES QUE INCIDAN DIRECTA O INDIRECTAMENTE EN LA PRESTACIÒN DEL SERVICIO  EDUCA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12"/>
          <p:cNvCxnSpPr/>
          <p:nvPr/>
        </p:nvCxnSpPr>
        <p:spPr>
          <a:xfrm flipH="1" flipV="1">
            <a:off x="4571280" y="1356840"/>
            <a:ext cx="1080" cy="2152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11"/>
          <p:cNvSpPr/>
          <p:nvPr/>
        </p:nvSpPr>
        <p:spPr>
          <a:xfrm>
            <a:off x="3500280" y="1571760"/>
            <a:ext cx="2124360" cy="2071440"/>
          </a:xfrm>
          <a:prstGeom prst="plus">
            <a:avLst>
              <a:gd name="adj" fmla="val 18282"/>
            </a:avLst>
          </a:prstGeom>
          <a:solidFill>
            <a:srgbClr val="c3d69b"/>
          </a:soli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e5b8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1850 DE AGOSTO 13 DE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 rot="16200000">
            <a:off x="3565440" y="2363400"/>
            <a:ext cx="1714680" cy="4845240"/>
          </a:xfrm>
          <a:prstGeom prst="can">
            <a:avLst>
              <a:gd name="adj" fmla="val 6342"/>
            </a:avLst>
          </a:prstGeom>
          <a:solidFill>
            <a:srgbClr val="fac090"/>
          </a:solidFill>
          <a:ln w="12600">
            <a:solidFill>
              <a:srgbClr val="4f81bd"/>
            </a:solidFill>
            <a:miter/>
          </a:ln>
          <a:effectLst>
            <a:outerShdw dist="153753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CAPÌTULO II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JORNADA  LABORAL DE DOCENTES Y DIRECTIV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DOCEN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1"/>
          <p:cNvSpPr/>
          <p:nvPr/>
        </p:nvSpPr>
        <p:spPr>
          <a:xfrm>
            <a:off x="3500280" y="1571760"/>
            <a:ext cx="2124360" cy="2071440"/>
          </a:xfrm>
          <a:prstGeom prst="plus">
            <a:avLst>
              <a:gd name="adj" fmla="val 18282"/>
            </a:avLst>
          </a:prstGeom>
          <a:solidFill>
            <a:srgbClr val="c3d69b"/>
          </a:soli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e5b8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1850 DE AGOSTO 13 DE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2"/>
          <p:cNvSpPr/>
          <p:nvPr/>
        </p:nvSpPr>
        <p:spPr>
          <a:xfrm rot="16200000">
            <a:off x="3393000" y="1464120"/>
            <a:ext cx="1714680" cy="6643440"/>
          </a:xfrm>
          <a:prstGeom prst="can">
            <a:avLst>
              <a:gd name="adj" fmla="val 4625"/>
            </a:avLst>
          </a:prstGeom>
          <a:solidFill>
            <a:srgbClr val="d99694"/>
          </a:solidFill>
          <a:ln w="12600">
            <a:solidFill>
              <a:srgbClr val="4f81bd"/>
            </a:solidFill>
            <a:miter/>
          </a:ln>
          <a:effectLst>
            <a:outerShdw dist="153753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Preparó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Mg. Wilton Gastelbondo Garc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Coordinador Oficina de Calidad Sincelej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Septiembre 2011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4"/>
          <p:cNvSpPr/>
          <p:nvPr/>
        </p:nvSpPr>
        <p:spPr>
          <a:xfrm>
            <a:off x="142920" y="1428840"/>
            <a:ext cx="1428840" cy="242892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2428920"/>
              <a:gd name="textAreaBottom" fmla="*/ 2359440 h 2428920"/>
            </a:gdLst>
            <a:ahLst/>
            <a:rect l="textAreaLeft" t="textAreaTop" r="textAreaRight" b="textAreaBottom"/>
            <a:pathLst>
              <a:path w="21600" h="36715">
                <a:moveTo>
                  <a:pt x="3600" y="0"/>
                </a:moveTo>
                <a:arcTo wR="3600" hR="3600" stAng="16200000" swAng="-5400000"/>
                <a:lnTo>
                  <a:pt x="0" y="33115"/>
                </a:lnTo>
                <a:arcTo wR="3600" hR="3600" stAng="10800000" swAng="-5400000"/>
                <a:lnTo>
                  <a:pt x="18000" y="367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d5b5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PEC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 H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MA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071800" y="1143000"/>
            <a:ext cx="1600200" cy="642960"/>
          </a:xfrm>
          <a:prstGeom prst="rect">
            <a:avLst/>
          </a:prstGeom>
          <a:solidFill>
            <a:srgbClr val="fac09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NACIÒN ACADÈ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928880" y="3429000"/>
            <a:ext cx="1857240" cy="1214280"/>
          </a:xfrm>
          <a:prstGeom prst="rect">
            <a:avLst/>
          </a:prstGeom>
          <a:solidFill>
            <a:srgbClr val="fac09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MPLIMIENTO DE ACTIVIDADES CURRICULARES COMPLEMEN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4429080" y="121428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20 HORAS DE CLASES EN PREESCO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25 HORAS DE CLASES EN PRIM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22 HORAS DE CLASES EN SECUNDARIA Y ME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AutoShape 11"/>
          <p:cNvCxnSpPr/>
          <p:nvPr/>
        </p:nvCxnSpPr>
        <p:spPr>
          <a:xfrm flipH="1">
            <a:off x="1784160" y="1499760"/>
            <a:ext cx="73440" cy="26456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67" name="AutoShape 12"/>
          <p:cNvCxnSpPr/>
          <p:nvPr/>
        </p:nvCxnSpPr>
        <p:spPr>
          <a:xfrm>
            <a:off x="1857240" y="1499760"/>
            <a:ext cx="23904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68" name="AutoShape 13"/>
          <p:cNvCxnSpPr/>
          <p:nvPr/>
        </p:nvCxnSpPr>
        <p:spPr>
          <a:xfrm>
            <a:off x="1642680" y="2714760"/>
            <a:ext cx="14364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169" name="AutoShape 15"/>
          <p:cNvSpPr/>
          <p:nvPr/>
        </p:nvSpPr>
        <p:spPr>
          <a:xfrm>
            <a:off x="3786120" y="1357200"/>
            <a:ext cx="571680" cy="304920"/>
          </a:xfrm>
          <a:prstGeom prst="rightArrow">
            <a:avLst>
              <a:gd name="adj1" fmla="val 50000"/>
              <a:gd name="adj2" fmla="val 63276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4643280" y="3714840"/>
            <a:ext cx="10717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PRIM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15 HOR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12"/>
          <p:cNvCxnSpPr/>
          <p:nvPr/>
        </p:nvCxnSpPr>
        <p:spPr>
          <a:xfrm>
            <a:off x="1785600" y="4142880"/>
            <a:ext cx="143640" cy="25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172" name="AutoShape 9"/>
          <p:cNvSpPr/>
          <p:nvPr/>
        </p:nvSpPr>
        <p:spPr>
          <a:xfrm rot="20773200">
            <a:off x="4562640" y="2841120"/>
            <a:ext cx="1155600" cy="443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PREESCOLAR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20 HO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 rot="563400">
            <a:off x="4525560" y="4613400"/>
            <a:ext cx="1409760" cy="44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SECUNDARIA Y MEDIA 18 HO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3929040" y="3714840"/>
            <a:ext cx="642960" cy="304560"/>
          </a:xfrm>
          <a:prstGeom prst="rightArrow">
            <a:avLst>
              <a:gd name="adj1" fmla="val 70926"/>
              <a:gd name="adj2" fmla="val 63333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5"/>
          <p:cNvSpPr/>
          <p:nvPr/>
        </p:nvSpPr>
        <p:spPr>
          <a:xfrm rot="936600">
            <a:off x="3819600" y="4417560"/>
            <a:ext cx="642960" cy="304920"/>
          </a:xfrm>
          <a:prstGeom prst="rightArrow">
            <a:avLst>
              <a:gd name="adj1" fmla="val 70926"/>
              <a:gd name="adj2" fmla="val 63258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 rot="20568000">
            <a:off x="3890880" y="3139560"/>
            <a:ext cx="642960" cy="304920"/>
          </a:xfrm>
          <a:prstGeom prst="rightArrow">
            <a:avLst>
              <a:gd name="adj1" fmla="val 70926"/>
              <a:gd name="adj2" fmla="val 63258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5"/>
          <p:cNvSpPr/>
          <p:nvPr/>
        </p:nvSpPr>
        <p:spPr>
          <a:xfrm rot="20427600">
            <a:off x="5675400" y="2383920"/>
            <a:ext cx="642960" cy="304920"/>
          </a:xfrm>
          <a:prstGeom prst="rightArrow">
            <a:avLst>
              <a:gd name="adj1" fmla="val 70926"/>
              <a:gd name="adj2" fmla="val 63258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>
            <a:off x="5786280" y="2801880"/>
            <a:ext cx="571680" cy="304920"/>
          </a:xfrm>
          <a:prstGeom prst="rightArrow">
            <a:avLst>
              <a:gd name="adj1" fmla="val 70926"/>
              <a:gd name="adj2" fmla="val 63276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 rot="20846400">
            <a:off x="5772240" y="3539880"/>
            <a:ext cx="588960" cy="304560"/>
          </a:xfrm>
          <a:prstGeom prst="rightArrow">
            <a:avLst>
              <a:gd name="adj1" fmla="val 70926"/>
              <a:gd name="adj2" fmla="val 6333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6000840" y="4621320"/>
            <a:ext cx="592200" cy="304560"/>
          </a:xfrm>
          <a:prstGeom prst="rightArrow">
            <a:avLst>
              <a:gd name="adj1" fmla="val 70926"/>
              <a:gd name="adj2" fmla="val 63338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 rot="392400">
            <a:off x="5730480" y="3963600"/>
            <a:ext cx="642960" cy="304920"/>
          </a:xfrm>
          <a:prstGeom prst="rightArrow">
            <a:avLst>
              <a:gd name="adj1" fmla="val 70926"/>
              <a:gd name="adj2" fmla="val 63258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 rot="1442400">
            <a:off x="5908320" y="5030640"/>
            <a:ext cx="606600" cy="304920"/>
          </a:xfrm>
          <a:prstGeom prst="rightArrow">
            <a:avLst>
              <a:gd name="adj1" fmla="val 70926"/>
              <a:gd name="adj2" fmla="val 63273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 rot="21187200">
            <a:off x="6341760" y="2075040"/>
            <a:ext cx="1857240" cy="363240"/>
          </a:xfrm>
          <a:prstGeom prst="roundRect">
            <a:avLst>
              <a:gd name="adj" fmla="val 28574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10 HORAS DEN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6369120" y="2714760"/>
            <a:ext cx="1917720" cy="446040"/>
          </a:xfrm>
          <a:prstGeom prst="roundRect">
            <a:avLst>
              <a:gd name="adj" fmla="val 38606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10 HORAS FUERA O EN JORNADA CONTR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6429240" y="3429000"/>
            <a:ext cx="17859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5 HORAS DEN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6643800" y="4572000"/>
            <a:ext cx="1643040" cy="428760"/>
          </a:xfrm>
          <a:prstGeom prst="roundRect">
            <a:avLst>
              <a:gd name="adj" fmla="val 2481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8 HORAS DEN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6429240" y="4000680"/>
            <a:ext cx="1785960" cy="43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10 HORAS FUERA O EN JORNADA CONTR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583200">
            <a:off x="6524280" y="5291280"/>
            <a:ext cx="1785960" cy="4284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10 HORAS FUERA O EN JORNADA CONTR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"/>
          <p:cNvSpPr/>
          <p:nvPr/>
        </p:nvSpPr>
        <p:spPr>
          <a:xfrm>
            <a:off x="428760" y="214200"/>
            <a:ext cx="3286080" cy="428760"/>
          </a:xfrm>
          <a:prstGeom prst="foldedCorner">
            <a:avLst>
              <a:gd name="adj" fmla="val 12500"/>
            </a:avLst>
          </a:prstGeom>
          <a:solidFill>
            <a:srgbClr val="dce6f2"/>
          </a:soli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ORNADA LABORAL DE LOS DOC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rtículo  9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14200" y="5000760"/>
            <a:ext cx="5929560" cy="1571400"/>
          </a:xfrm>
          <a:prstGeom prst="irregularSeal1">
            <a:avLst/>
          </a:prstGeom>
          <a:solidFill>
            <a:srgbClr val="d99694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NSIDAD HORARIA DE LA INSTITUCIÒN   =  3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4"/>
          <p:cNvSpPr/>
          <p:nvPr/>
        </p:nvSpPr>
        <p:spPr>
          <a:xfrm>
            <a:off x="142920" y="1571760"/>
            <a:ext cx="1409760" cy="1643040"/>
          </a:xfrm>
          <a:custGeom>
            <a:avLst/>
            <a:gdLst>
              <a:gd name="textAreaLeft" fmla="*/ 68760 w 1409760"/>
              <a:gd name="textAreaRight" fmla="*/ 1341000 w 1409760"/>
              <a:gd name="textAreaTop" fmla="*/ 68760 h 1643040"/>
              <a:gd name="textAreaBottom" fmla="*/ 1574280 h 1643040"/>
            </a:gdLst>
            <a:ahLst/>
            <a:rect l="textAreaLeft" t="textAreaTop" r="textAreaRight" b="textAreaBottom"/>
            <a:pathLst>
              <a:path w="21600" h="25173">
                <a:moveTo>
                  <a:pt x="3600" y="0"/>
                </a:moveTo>
                <a:arcTo wR="3600" hR="3600" stAng="16200000" swAng="-5400000"/>
                <a:lnTo>
                  <a:pt x="0" y="21573"/>
                </a:lnTo>
                <a:arcTo wR="3600" hR="3600" stAng="10800000" swAng="-5400000"/>
                <a:lnTo>
                  <a:pt x="18000" y="25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RNADA LABORAL DEL DOCENTE DE PREESC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ìculo 9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071800" y="714240"/>
            <a:ext cx="1600200" cy="4431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NACION ACADE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1928880" y="3429000"/>
            <a:ext cx="1785960" cy="857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MPLIMIENTO DE ACTIVIDADES CURRICULARES COMPLEMEN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4214880" y="785880"/>
            <a:ext cx="4500360" cy="35712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20 HORAS DE CLASE DESARROLLANDO LAS 7 DIMENS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AutoShape 11"/>
          <p:cNvCxnSpPr/>
          <p:nvPr/>
        </p:nvCxnSpPr>
        <p:spPr>
          <a:xfrm flipH="1">
            <a:off x="1855440" y="856800"/>
            <a:ext cx="2160" cy="30027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96" name="AutoShape 12"/>
          <p:cNvCxnSpPr/>
          <p:nvPr/>
        </p:nvCxnSpPr>
        <p:spPr>
          <a:xfrm>
            <a:off x="1857240" y="856800"/>
            <a:ext cx="23904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97" name="AutoShape 13"/>
          <p:cNvCxnSpPr/>
          <p:nvPr/>
        </p:nvCxnSpPr>
        <p:spPr>
          <a:xfrm flipV="1">
            <a:off x="1500120" y="2356560"/>
            <a:ext cx="35784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198" name="AutoShape 15"/>
          <p:cNvSpPr/>
          <p:nvPr/>
        </p:nvSpPr>
        <p:spPr>
          <a:xfrm>
            <a:off x="3714840" y="785880"/>
            <a:ext cx="500040" cy="304560"/>
          </a:xfrm>
          <a:prstGeom prst="rightArrow">
            <a:avLst>
              <a:gd name="adj1" fmla="val 50000"/>
              <a:gd name="adj2" fmla="val 63325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4000680" y="1214280"/>
            <a:ext cx="5000400" cy="5643720"/>
          </a:xfrm>
          <a:custGeom>
            <a:avLst/>
            <a:gdLst>
              <a:gd name="textAreaLeft" fmla="*/ 244080 w 5000400"/>
              <a:gd name="textAreaRight" fmla="*/ 4756320 w 5000400"/>
              <a:gd name="textAreaTop" fmla="*/ 244080 h 5643720"/>
              <a:gd name="textAreaBottom" fmla="*/ 5399640 h 5643720"/>
            </a:gdLst>
            <a:ahLst/>
            <a:rect l="textAreaLeft" t="textAreaTop" r="textAreaRight" b="textAreaBottom"/>
            <a:pathLst>
              <a:path w="21600" h="24379">
                <a:moveTo>
                  <a:pt x="3600" y="0"/>
                </a:moveTo>
                <a:arcTo wR="3600" hR="3600" stAng="16200000" swAng="-5400000"/>
                <a:lnTo>
                  <a:pt x="0" y="20779"/>
                </a:lnTo>
                <a:arcTo wR="3600" hR="3600" stAng="10800000" swAng="-5400000"/>
                <a:lnTo>
                  <a:pt x="18000" y="243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1da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20 HORAS - EN  ACTIVIDADES CURRICULARES COMPLEMEN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a)  La administración del proceso educativo.  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2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b)  La  preparación  de su tarea  académica, la evaluación, la calificación, planeación, disciplina y formación   de los alumnos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c) Las reuniones  de profesores generales  o  por áreas.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d) La dirección de grupo y servicio de orientación estudiantil. 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MX" sz="900" spc="-1" strike="noStrike">
                <a:solidFill>
                  <a:srgbClr val="000000"/>
                </a:solidFill>
                <a:latin typeface="Arial"/>
              </a:rPr>
              <a:t>)  La atención de la comunidad,  en especial de los padres de familias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f)  Las actividades formativas, culturales y deportivas contempladas en el PEI. 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g) La realización de otras actividades vinculadas con organismos o instituciones del sector que incidan directa o indirectamente en la educación</a:t>
            </a: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h) En actividades de investigación y actualización pedagógica relacionadas con el  PEI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n actividades de planeación y evaluación institucional. 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j) En la ejecución de Proyectos  Pedagógicos, Artículo 14 Ley 115/ 94: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1. El estudio, la comprensión y la práctica de la Constitución y la instrucción cívic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2.El aprovechamiento del tiempo libre, el fomento de las diversas culturas, la práctica de la educación  física, la recreación y el deporte formativo.  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1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3.La enseñanza de la protección del ambiente, la ecología y la preservación de los recursos natural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4. La educación para la justicia, la paz, la democracia, la solidaridad, la confraternidad, el cooperativismo y, en general  la formación  en los valores human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5. La educación sexual, impartida en cada caso  de acuerdo con las necesidades psíquicas, físicas  y afectivas de los educandos según </a:t>
            </a: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6. La cultura  y medios  de comunicación como electiva  en las pruebas  Icf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7. Violencia y Sociedad como electiva en las pruebas del Icf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5"/>
          <p:cNvSpPr/>
          <p:nvPr/>
        </p:nvSpPr>
        <p:spPr>
          <a:xfrm>
            <a:off x="3714840" y="3714840"/>
            <a:ext cx="214200" cy="304560"/>
          </a:xfrm>
          <a:prstGeom prst="rightArrow">
            <a:avLst>
              <a:gd name="adj1" fmla="val 50000"/>
              <a:gd name="adj2" fmla="val 63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2"/>
          <p:cNvCxnSpPr/>
          <p:nvPr/>
        </p:nvCxnSpPr>
        <p:spPr>
          <a:xfrm>
            <a:off x="1856880" y="3857760"/>
            <a:ext cx="7236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4"/>
          <p:cNvSpPr/>
          <p:nvPr/>
        </p:nvSpPr>
        <p:spPr>
          <a:xfrm>
            <a:off x="142920" y="2428920"/>
            <a:ext cx="1409760" cy="9288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S DE PREESC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2071800" y="2571840"/>
            <a:ext cx="1600200" cy="78588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NACIÒN ACADÈ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4214880" y="928800"/>
            <a:ext cx="4214880" cy="4643280"/>
          </a:xfrm>
          <a:custGeom>
            <a:avLst/>
            <a:gdLst>
              <a:gd name="textAreaLeft" fmla="*/ 205560 w 4214880"/>
              <a:gd name="textAreaRight" fmla="*/ 4009320 w 4214880"/>
              <a:gd name="textAreaTop" fmla="*/ 205560 h 4643280"/>
              <a:gd name="textAreaBottom" fmla="*/ 4437720 h 4643280"/>
            </a:gdLst>
            <a:ahLst/>
            <a:rect l="textAreaLeft" t="textAreaTop" r="textAreaRight" b="textAreaBottom"/>
            <a:pathLst>
              <a:path w="21600" h="23795">
                <a:moveTo>
                  <a:pt x="3600" y="0"/>
                </a:moveTo>
                <a:arcTo wR="3600" hR="3600" stAng="16200000" swAng="-5400000"/>
                <a:lnTo>
                  <a:pt x="0" y="20195"/>
                </a:lnTo>
                <a:arcTo wR="3600" hR="3600" stAng="10800000" swAng="-5400000"/>
                <a:lnTo>
                  <a:pt x="18000" y="237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20 HORAS DE CLASE DESARROLLANDO LAS 7 DIMENS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AutoShape 11"/>
          <p:cNvCxnSpPr/>
          <p:nvPr/>
        </p:nvCxnSpPr>
        <p:spPr>
          <a:xfrm flipH="1">
            <a:off x="1785600" y="2714400"/>
            <a:ext cx="2160" cy="5007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06" name="AutoShape 12"/>
          <p:cNvCxnSpPr/>
          <p:nvPr/>
        </p:nvCxnSpPr>
        <p:spPr>
          <a:xfrm>
            <a:off x="1785600" y="3214440"/>
            <a:ext cx="23868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07" name="AutoShape 13"/>
          <p:cNvCxnSpPr/>
          <p:nvPr/>
        </p:nvCxnSpPr>
        <p:spPr>
          <a:xfrm>
            <a:off x="1785960" y="2714760"/>
            <a:ext cx="28656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08" name="AutoShape 15"/>
          <p:cNvSpPr/>
          <p:nvPr/>
        </p:nvSpPr>
        <p:spPr>
          <a:xfrm>
            <a:off x="3714840" y="2857680"/>
            <a:ext cx="428400" cy="304560"/>
          </a:xfrm>
          <a:prstGeom prst="rightArrow">
            <a:avLst>
              <a:gd name="adj1" fmla="val 50000"/>
              <a:gd name="adj2" fmla="val 63297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357800" y="1643040"/>
          <a:ext cx="3929040" cy="3651120"/>
        </p:xfrm>
        <a:graphic>
          <a:graphicData uri="http://schemas.openxmlformats.org/drawingml/2006/table">
            <a:tbl>
              <a:tblPr/>
              <a:tblGrid>
                <a:gridCol w="1455480"/>
                <a:gridCol w="946440"/>
                <a:gridCol w="676080"/>
                <a:gridCol w="851040"/>
              </a:tblGrid>
              <a:tr h="3096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DIMENS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U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ffffff"/>
                          </a:solidFill>
                          <a:latin typeface="Arial"/>
                          <a:ea typeface="MS Mincho"/>
                        </a:rPr>
                        <a:t>HOR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 SOCIOAFEC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CIÒ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11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 CORPO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12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. COMUNICA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12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  COGNI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11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  È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12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. ESTÈ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11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 ESPIRIT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412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cxnSp>
        <p:nvCxnSpPr>
          <p:cNvPr id="210" name="AutoShape 12"/>
          <p:cNvCxnSpPr/>
          <p:nvPr/>
        </p:nvCxnSpPr>
        <p:spPr>
          <a:xfrm>
            <a:off x="1571400" y="2999880"/>
            <a:ext cx="23868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11" name="AutoShape 2"/>
          <p:cNvSpPr/>
          <p:nvPr/>
        </p:nvSpPr>
        <p:spPr>
          <a:xfrm>
            <a:off x="571680" y="357120"/>
            <a:ext cx="2757240" cy="642960"/>
          </a:xfrm>
          <a:prstGeom prst="foldedCorner">
            <a:avLst>
              <a:gd name="adj" fmla="val 12500"/>
            </a:avLst>
          </a:prstGeom>
          <a:solidFill>
            <a:srgbClr val="dce6f2"/>
          </a:soli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ORNADA LABORAL DE LOS DOC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rtículo  9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4"/>
          <p:cNvSpPr/>
          <p:nvPr/>
        </p:nvSpPr>
        <p:spPr>
          <a:xfrm>
            <a:off x="500040" y="1714680"/>
            <a:ext cx="1409760" cy="1643040"/>
          </a:xfrm>
          <a:custGeom>
            <a:avLst/>
            <a:gdLst>
              <a:gd name="textAreaLeft" fmla="*/ 68760 w 1409760"/>
              <a:gd name="textAreaRight" fmla="*/ 1341000 w 1409760"/>
              <a:gd name="textAreaTop" fmla="*/ 68760 h 1643040"/>
              <a:gd name="textAreaBottom" fmla="*/ 1574280 h 1643040"/>
            </a:gdLst>
            <a:ahLst/>
            <a:rect l="textAreaLeft" t="textAreaTop" r="textAreaRight" b="textAreaBottom"/>
            <a:pathLst>
              <a:path w="21600" h="25173">
                <a:moveTo>
                  <a:pt x="3600" y="0"/>
                </a:moveTo>
                <a:arcTo wR="3600" hR="3600" stAng="16200000" swAng="-5400000"/>
                <a:lnTo>
                  <a:pt x="0" y="21573"/>
                </a:lnTo>
                <a:arcTo wR="3600" hR="3600" stAng="10800000" swAng="-5400000"/>
                <a:lnTo>
                  <a:pt x="18000" y="25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RNADA LABORAL DEL DOCENTE DE PREESC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ìculo 9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286000" y="500040"/>
          <a:ext cx="5786280" cy="6264360"/>
        </p:xfrm>
        <a:graphic>
          <a:graphicData uri="http://schemas.openxmlformats.org/drawingml/2006/table">
            <a:tbl>
              <a:tblPr/>
              <a:tblGrid>
                <a:gridCol w="1058760"/>
                <a:gridCol w="870120"/>
                <a:gridCol w="965160"/>
                <a:gridCol w="963720"/>
                <a:gridCol w="965160"/>
                <a:gridCol w="963360"/>
              </a:tblGrid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U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ERC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E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ER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15-7: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reuniones  de profesores generales  o  por área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actividades de planeación y evaluación institucional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administración del proceso educativo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atención de la comunidad,  en especial de los padres de famil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actividades de investigación y actualización pedagógica relacionadas con el  PEI</a:t>
                      </a:r>
                      <a:r>
                        <a:rPr b="1" lang="es-MX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:15-8: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imensión Corpo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irit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É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ocio afec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Cogni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-9: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imensión Corpo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Comunica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É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irit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Cogni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15-9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AN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30-10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Esté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ocio afec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Cogni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imensión Corpo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Comunica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30-11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Esté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imensión  Socio afec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Comunica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imensión Corpo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Dim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4f6228"/>
                          </a:solidFill>
                          <a:latin typeface="Calibri"/>
                        </a:rPr>
                        <a:t>Comunica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30-12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administración del proceso educativ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reuniones  de profesores generales  o  por áre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dirección de grupo y servicio de orientación estudiantil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atención de la comunidad,  en especial de los padres de famili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actividades de planeación y evaluación institucional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8240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 PEDAGÒGICO: La educación para la justicia, la paz, la democracia, la solidaridad, la confraternidad, el cooperativismo y, en general  la formación  en los valores humanos.   </a:t>
                      </a:r>
                      <a:r>
                        <a:rPr b="1" lang="es-MX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 HORAS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cxnSp>
        <p:nvCxnSpPr>
          <p:cNvPr id="214" name="AutoShape 13"/>
          <p:cNvCxnSpPr/>
          <p:nvPr/>
        </p:nvCxnSpPr>
        <p:spPr>
          <a:xfrm flipH="1" flipV="1">
            <a:off x="1999800" y="2499480"/>
            <a:ext cx="286560" cy="25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4"/>
          <p:cNvSpPr/>
          <p:nvPr/>
        </p:nvSpPr>
        <p:spPr>
          <a:xfrm>
            <a:off x="142920" y="1857240"/>
            <a:ext cx="1409760" cy="12146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 DE PRIM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928880" y="857160"/>
            <a:ext cx="1671480" cy="4431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NACION ACADE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1857240" y="3429000"/>
            <a:ext cx="1714680" cy="857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MPLIMIENTO DE ACTIVIDADES CURRICULARES COMPLEMEN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0"/>
          <p:cNvSpPr/>
          <p:nvPr/>
        </p:nvSpPr>
        <p:spPr>
          <a:xfrm>
            <a:off x="4000680" y="857160"/>
            <a:ext cx="4572000" cy="42876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ff0000"/>
                </a:solidFill>
                <a:latin typeface="Arial"/>
              </a:rPr>
              <a:t>25 HORAS DE CLASE DESARROLLANDO LAS 9  ÁREAS OBLIGATORIAS Y FUNDAMENTA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AutoShape 11"/>
          <p:cNvCxnSpPr/>
          <p:nvPr/>
        </p:nvCxnSpPr>
        <p:spPr>
          <a:xfrm>
            <a:off x="1713600" y="1071360"/>
            <a:ext cx="1080" cy="27882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20" name="AutoShape 12"/>
          <p:cNvCxnSpPr>
            <a:endCxn id="216" idx="1"/>
          </p:cNvCxnSpPr>
          <p:nvPr/>
        </p:nvCxnSpPr>
        <p:spPr>
          <a:xfrm>
            <a:off x="1714320" y="1071360"/>
            <a:ext cx="214920" cy="68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21" name="AutoShape 13"/>
          <p:cNvCxnSpPr/>
          <p:nvPr/>
        </p:nvCxnSpPr>
        <p:spPr>
          <a:xfrm>
            <a:off x="1571400" y="2499840"/>
            <a:ext cx="143640" cy="25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22" name="AutoShape 15"/>
          <p:cNvSpPr/>
          <p:nvPr/>
        </p:nvSpPr>
        <p:spPr>
          <a:xfrm>
            <a:off x="3643200" y="928800"/>
            <a:ext cx="357480" cy="304560"/>
          </a:xfrm>
          <a:prstGeom prst="rightArrow">
            <a:avLst>
              <a:gd name="adj1" fmla="val 50000"/>
              <a:gd name="adj2" fmla="val 63383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4000680" y="1428840"/>
            <a:ext cx="4857480" cy="5286240"/>
          </a:xfrm>
          <a:custGeom>
            <a:avLst/>
            <a:gdLst>
              <a:gd name="textAreaLeft" fmla="*/ 236880 w 4857480"/>
              <a:gd name="textAreaRight" fmla="*/ 4620600 w 4857480"/>
              <a:gd name="textAreaTop" fmla="*/ 236880 h 5286240"/>
              <a:gd name="textAreaBottom" fmla="*/ 5049360 h 5286240"/>
            </a:gdLst>
            <a:ahLst/>
            <a:rect l="textAreaLeft" t="textAreaTop" r="textAreaRight" b="textAreaBottom"/>
            <a:pathLst>
              <a:path w="21600" h="23506">
                <a:moveTo>
                  <a:pt x="3600" y="0"/>
                </a:moveTo>
                <a:arcTo wR="3600" hR="3600" stAng="16200000" swAng="-5400000"/>
                <a:lnTo>
                  <a:pt x="0" y="19906"/>
                </a:lnTo>
                <a:arcTo wR="3600" hR="3600" stAng="10800000" swAng="-5400000"/>
                <a:lnTo>
                  <a:pt x="18000" y="235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dcdb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15 HORAS-ACTIVIDADES CURRICULARE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a)  La administración del proceso educativo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. 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b)  La  preparación  de su tarea  académica, la evaluación, la calificación, planeación, disciplina y formación   de los alumn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c) Las reuniones  de profesores generales  o  por áreas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d) La dirección de grupo y servicio de orientación estudiantil. 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)  La atención de la comunidad,  en especial de los padres de familias. 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f)  Las actividades formativas, culturales y deportivas contempladas en el P. E. 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g) La realización de otras actividades vinculadas con organismos o instituciones del sector que incidan directa o indirectamente en la educación</a:t>
            </a: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h) En actividades de investigación y actualización pedagógica relacionadas con el  P. E. 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n actividades de planeación y evaluación institucional.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j) En la ejecución de Proyectos  Pedagógicos, Artículo 14 Ley 115/ 94: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1. El estudio, la comprensión y la práctica de la Constitución y la instrucción cívic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2.El aprovechamiento del tiempo libre, el fomento de las diversas culturas, la práctica de la educación  física, la recreación y el deporte formativo 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3.La enseñanza de la protección del ambiente, la ecología y la preservación de los recursos naturales.  </a:t>
            </a: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1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4. La educación para la justicia, la paz, la democracia, la solidaridad, la confraternidad, el cooperativismo y, en general  la formación  en los valores human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5. La educación sexual, impartida en cada caso  de acuerdo con las necesidades psíquicas, físicas  y afectivas de los educandos según </a:t>
            </a: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6. La cultura  y medios  de comunicación como electiva del Icf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7. Violencia y Sociedad como electiva de las pruebas del Icfes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5"/>
          <p:cNvSpPr/>
          <p:nvPr/>
        </p:nvSpPr>
        <p:spPr>
          <a:xfrm>
            <a:off x="3571920" y="3714840"/>
            <a:ext cx="357120" cy="304560"/>
          </a:xfrm>
          <a:prstGeom prst="rightArrow">
            <a:avLst>
              <a:gd name="adj1" fmla="val 50000"/>
              <a:gd name="adj2" fmla="val 63319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12"/>
          <p:cNvCxnSpPr/>
          <p:nvPr/>
        </p:nvCxnSpPr>
        <p:spPr>
          <a:xfrm>
            <a:off x="1714680" y="3857760"/>
            <a:ext cx="14328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26" name="AutoShape 2"/>
          <p:cNvSpPr/>
          <p:nvPr/>
        </p:nvSpPr>
        <p:spPr>
          <a:xfrm>
            <a:off x="214200" y="214200"/>
            <a:ext cx="3257640" cy="428760"/>
          </a:xfrm>
          <a:prstGeom prst="foldedCorner">
            <a:avLst>
              <a:gd name="adj" fmla="val 12500"/>
            </a:avLst>
          </a:prstGeom>
          <a:solidFill>
            <a:srgbClr val="dce6f2"/>
          </a:soli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ORNADA LABORAL DE LOS DOC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rtículo  9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142920" y="1571760"/>
            <a:ext cx="1409760" cy="1643040"/>
          </a:xfrm>
          <a:custGeom>
            <a:avLst/>
            <a:gdLst>
              <a:gd name="textAreaLeft" fmla="*/ 68760 w 1409760"/>
              <a:gd name="textAreaRight" fmla="*/ 1341000 w 1409760"/>
              <a:gd name="textAreaTop" fmla="*/ 68760 h 1643040"/>
              <a:gd name="textAreaBottom" fmla="*/ 1574280 h 1643040"/>
            </a:gdLst>
            <a:ahLst/>
            <a:rect l="textAreaLeft" t="textAreaTop" r="textAreaRight" b="textAreaBottom"/>
            <a:pathLst>
              <a:path w="21600" h="25173">
                <a:moveTo>
                  <a:pt x="3600" y="0"/>
                </a:moveTo>
                <a:arcTo wR="3600" hR="3600" stAng="16200000" swAng="-5400000"/>
                <a:lnTo>
                  <a:pt x="0" y="21573"/>
                </a:lnTo>
                <a:arcTo wR="3600" hR="3600" stAng="10800000" swAng="-5400000"/>
                <a:lnTo>
                  <a:pt x="18000" y="25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RNADA LABORAL DEL DOCENTE DE PRIM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ìculo 9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4"/>
          <p:cNvSpPr/>
          <p:nvPr/>
        </p:nvSpPr>
        <p:spPr>
          <a:xfrm>
            <a:off x="142920" y="2786040"/>
            <a:ext cx="1428840" cy="9288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S DE PRIM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2071800" y="2857680"/>
            <a:ext cx="1214280" cy="78552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NACIÒN ACADÈ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3714840" y="857160"/>
            <a:ext cx="5072040" cy="5715000"/>
          </a:xfrm>
          <a:custGeom>
            <a:avLst/>
            <a:gdLst>
              <a:gd name="textAreaLeft" fmla="*/ 247320 w 5072040"/>
              <a:gd name="textAreaRight" fmla="*/ 4824720 w 5072040"/>
              <a:gd name="textAreaTop" fmla="*/ 247320 h 5715000"/>
              <a:gd name="textAreaBottom" fmla="*/ 5467680 h 5715000"/>
            </a:gdLst>
            <a:ahLst/>
            <a:rect l="textAreaLeft" t="textAreaTop" r="textAreaRight" b="textAreaBottom"/>
            <a:pathLst>
              <a:path w="21600" h="24338">
                <a:moveTo>
                  <a:pt x="3600" y="0"/>
                </a:moveTo>
                <a:arcTo wR="3600" hR="3600" stAng="16200000" swAng="-5400000"/>
                <a:lnTo>
                  <a:pt x="0" y="20738"/>
                </a:lnTo>
                <a:arcTo wR="3600" hR="3600" stAng="10800000" swAng="-5400000"/>
                <a:lnTo>
                  <a:pt x="18000" y="243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25 HORAS DE CLASE DESARROLLANDO LAS 9 ÀREAS OBLIGATORIAS Y FUNDAMEN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AutoShape 11"/>
          <p:cNvCxnSpPr/>
          <p:nvPr/>
        </p:nvCxnSpPr>
        <p:spPr>
          <a:xfrm flipH="1">
            <a:off x="1785600" y="3000240"/>
            <a:ext cx="2160" cy="5724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32" name="AutoShape 12"/>
          <p:cNvCxnSpPr/>
          <p:nvPr/>
        </p:nvCxnSpPr>
        <p:spPr>
          <a:xfrm>
            <a:off x="1785960" y="2999880"/>
            <a:ext cx="286560" cy="25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33" name="AutoShape 13"/>
          <p:cNvCxnSpPr/>
          <p:nvPr/>
        </p:nvCxnSpPr>
        <p:spPr>
          <a:xfrm>
            <a:off x="1785960" y="3571920"/>
            <a:ext cx="28656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34" name="AutoShape 15"/>
          <p:cNvSpPr/>
          <p:nvPr/>
        </p:nvSpPr>
        <p:spPr>
          <a:xfrm>
            <a:off x="3286080" y="3071880"/>
            <a:ext cx="428760" cy="304560"/>
          </a:xfrm>
          <a:prstGeom prst="rightArrow">
            <a:avLst>
              <a:gd name="adj1" fmla="val 50000"/>
              <a:gd name="adj2" fmla="val 63351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857760" y="1571760"/>
          <a:ext cx="4857480" cy="4394160"/>
        </p:xfrm>
        <a:graphic>
          <a:graphicData uri="http://schemas.openxmlformats.org/drawingml/2006/table">
            <a:tbl>
              <a:tblPr/>
              <a:tblGrid>
                <a:gridCol w="1231920"/>
                <a:gridCol w="1393560"/>
                <a:gridCol w="854280"/>
                <a:gridCol w="609480"/>
                <a:gridCol w="768240"/>
              </a:tblGrid>
              <a:tr h="36324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RE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SIGNATUR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GRAD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GRUP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  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AS SEMAN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308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Ciencias Naturales y Educación Ambien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º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Ciencias Soci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Historia, Geografía, Constitución Política y Democra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3081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.Educación Artí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369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 Educación Ética y en Valores Humano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 Educación física, recreación y deport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s-MX" sz="7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3128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.Educación Religio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3668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Humanidad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ngua Castell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glé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3715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metrí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stadí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.Tecnología e Informá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Optativ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4104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cxnSp>
        <p:nvCxnSpPr>
          <p:cNvPr id="236" name="AutoShape 12"/>
          <p:cNvCxnSpPr>
            <a:stCxn id="228" idx="3"/>
          </p:cNvCxnSpPr>
          <p:nvPr/>
        </p:nvCxnSpPr>
        <p:spPr>
          <a:xfrm>
            <a:off x="1571400" y="3250800"/>
            <a:ext cx="214920" cy="356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37" name="AutoShape 2"/>
          <p:cNvSpPr/>
          <p:nvPr/>
        </p:nvSpPr>
        <p:spPr>
          <a:xfrm>
            <a:off x="500040" y="428760"/>
            <a:ext cx="2757600" cy="642960"/>
          </a:xfrm>
          <a:prstGeom prst="foldedCorner">
            <a:avLst>
              <a:gd name="adj" fmla="val 12500"/>
            </a:avLst>
          </a:prstGeom>
          <a:solidFill>
            <a:srgbClr val="dce6f2"/>
          </a:soli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ORNADA LABORAL DE LOS DOC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rtículo  9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4"/>
          <p:cNvSpPr/>
          <p:nvPr/>
        </p:nvSpPr>
        <p:spPr>
          <a:xfrm>
            <a:off x="500040" y="2214720"/>
            <a:ext cx="1409760" cy="1643040"/>
          </a:xfrm>
          <a:custGeom>
            <a:avLst/>
            <a:gdLst>
              <a:gd name="textAreaLeft" fmla="*/ 68760 w 1409760"/>
              <a:gd name="textAreaRight" fmla="*/ 1341000 w 1409760"/>
              <a:gd name="textAreaTop" fmla="*/ 68760 h 1643040"/>
              <a:gd name="textAreaBottom" fmla="*/ 1574280 h 1643040"/>
            </a:gdLst>
            <a:ahLst/>
            <a:rect l="textAreaLeft" t="textAreaTop" r="textAreaRight" b="textAreaBottom"/>
            <a:pathLst>
              <a:path w="21600" h="25173">
                <a:moveTo>
                  <a:pt x="3600" y="0"/>
                </a:moveTo>
                <a:arcTo wR="3600" hR="3600" stAng="16200000" swAng="-5400000"/>
                <a:lnTo>
                  <a:pt x="0" y="21573"/>
                </a:lnTo>
                <a:arcTo wR="3600" hR="3600" stAng="10800000" swAng="-5400000"/>
                <a:lnTo>
                  <a:pt x="18000" y="25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RNADA LABORAL DEL DOCENTE DE PRIM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ìculo 9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14720" y="500040"/>
          <a:ext cx="5857560" cy="5703840"/>
        </p:xfrm>
        <a:graphic>
          <a:graphicData uri="http://schemas.openxmlformats.org/drawingml/2006/table">
            <a:tbl>
              <a:tblPr/>
              <a:tblGrid>
                <a:gridCol w="1071360"/>
                <a:gridCol w="928800"/>
                <a:gridCol w="928800"/>
                <a:gridCol w="975960"/>
                <a:gridCol w="976320"/>
                <a:gridCol w="9763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U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ERC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E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ER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15-7: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cias Natur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lig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ón Artíst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ngua Castell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ducación física, recreación y deport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:15-8: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cias Soci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ón Artíst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cias Natur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ducación física, recreación y deport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-9: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cias Soci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cias Natur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cnología e Informát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15-9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AN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30-10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ducación Ética y en Valores Human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ngua Castell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cias Soci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30-11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ducación Ética y en Valores Human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ngua Castell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nología e Informát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ncias Soci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30-12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administración del proceso educativo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reuniones  de profesores generales  o  por área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dirección de grupo y servicio de orientación estudiantil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atención de la comunidad,  en especial de los padres de familia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ctividades de planeación y evaluación institucional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550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 PEDAGÒGICO: La enseñanza de la protección del ambiente, la ecología y la preservación de los recursos naturales.  </a:t>
                      </a:r>
                      <a:r>
                        <a:rPr b="1" lang="es-MX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HORAS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4"/>
          <p:cNvSpPr/>
          <p:nvPr/>
        </p:nvSpPr>
        <p:spPr>
          <a:xfrm>
            <a:off x="142920" y="1857240"/>
            <a:ext cx="1409760" cy="12146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 DE SECUNDARIA Y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2071800" y="642960"/>
            <a:ext cx="1600200" cy="44280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NACION ACADE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2000160" y="3429000"/>
            <a:ext cx="1785960" cy="85716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MPLIMIENTO DE ACTIVIDADES CURRICULARES COMPLEMEN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0"/>
          <p:cNvSpPr/>
          <p:nvPr/>
        </p:nvSpPr>
        <p:spPr>
          <a:xfrm>
            <a:off x="4214880" y="714240"/>
            <a:ext cx="4500360" cy="42876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ff0000"/>
                </a:solidFill>
                <a:latin typeface="Arial"/>
              </a:rPr>
              <a:t>22 HORAS DE CLASE DESARROLLANDO EL ÁREA DE FORMACIÓN/ OTRAS ÁREAS SI SE REQUI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AutoShape 11"/>
          <p:cNvCxnSpPr/>
          <p:nvPr/>
        </p:nvCxnSpPr>
        <p:spPr>
          <a:xfrm flipH="1">
            <a:off x="1785600" y="856800"/>
            <a:ext cx="2160" cy="30027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45" name="AutoShape 12"/>
          <p:cNvCxnSpPr/>
          <p:nvPr/>
        </p:nvCxnSpPr>
        <p:spPr>
          <a:xfrm>
            <a:off x="1785960" y="856800"/>
            <a:ext cx="31032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46" name="AutoShape 13"/>
          <p:cNvCxnSpPr/>
          <p:nvPr/>
        </p:nvCxnSpPr>
        <p:spPr>
          <a:xfrm>
            <a:off x="1500120" y="2356920"/>
            <a:ext cx="286560" cy="25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47" name="AutoShape 15"/>
          <p:cNvSpPr/>
          <p:nvPr/>
        </p:nvSpPr>
        <p:spPr>
          <a:xfrm>
            <a:off x="3643200" y="714240"/>
            <a:ext cx="500040" cy="304920"/>
          </a:xfrm>
          <a:prstGeom prst="rightArrow">
            <a:avLst>
              <a:gd name="adj1" fmla="val 50000"/>
              <a:gd name="adj2" fmla="val 63250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4071960" y="1214280"/>
            <a:ext cx="4857840" cy="542952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429520"/>
              <a:gd name="textAreaBottom" fmla="*/ 5192640 h 5429520"/>
            </a:gdLst>
            <a:ahLst/>
            <a:rect l="textAreaLeft" t="textAreaTop" r="textAreaRight" b="textAreaBottom"/>
            <a:pathLst>
              <a:path w="21600" h="24142">
                <a:moveTo>
                  <a:pt x="3600" y="0"/>
                </a:moveTo>
                <a:arcTo wR="3600" hR="3600" stAng="16200000" swAng="-5400000"/>
                <a:lnTo>
                  <a:pt x="0" y="20542"/>
                </a:lnTo>
                <a:arcTo wR="3600" hR="3600" stAng="10800000" swAng="-5400000"/>
                <a:lnTo>
                  <a:pt x="18000" y="241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d5b5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0000"/>
                </a:solidFill>
                <a:latin typeface="Arial"/>
              </a:rPr>
              <a:t>18 HORAS-ACTIVIDADES CURRICULARE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a)  La administración del proceso educativo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b)  La  preparación  de su tarea  académica, la evaluación, la calificación, planeación, disciplina y formación   de los alumn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c) Las reuniones  de profesores generales  o  por áre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d) La dirección de grupo y servicio de orientación estudiantil.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)  La atención de la comunidad,  en especial de los padres de famili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f)  Las actividades formativas, culturales y deportivas contempladas en el P. E. 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g) La realización de otras actividades vinculadas con organismos o instituciones del sector que incidan directa o indirectamente en la educación</a:t>
            </a: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h) En actividades de investigación y actualización pedagógica relacionadas con el  PE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n actividades de planeación y evaluación institucion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j) En la ejecución de Proyectos  Pedagógicos, Artículo 14 Ley 115/ 94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1. El estudio, la comprensión y la práctica de la Constitución y la instrucción cívic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2.El aprovechamiento del tiempo libre, el fomento de las diversas culturas, la práctica de la educación  física, la recreación y el deporte formativ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3.La enseñanza de la protección del ambiente, la ecología y la preservación de los recursos natural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4. La educación para la justicia, la paz, la democracia, la solidaridad, la confraternidad, el cooperativismo y, en general  la formación  en los valores human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5. La educación sexual, impartida en cada caso  de acuerdo con las necesidades psíquicas, físicas  y afectivas de los educandos según </a:t>
            </a: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ed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6. La cultura  y medios  de comunicación como electiva del Icf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7. Violencia y Sociedad como electiva de las pruebas del Icf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5"/>
          <p:cNvSpPr/>
          <p:nvPr/>
        </p:nvSpPr>
        <p:spPr>
          <a:xfrm>
            <a:off x="3786120" y="3714840"/>
            <a:ext cx="285840" cy="304560"/>
          </a:xfrm>
          <a:prstGeom prst="rightArrow">
            <a:avLst>
              <a:gd name="adj1" fmla="val 50000"/>
              <a:gd name="adj2" fmla="val 63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AutoShape 12"/>
          <p:cNvCxnSpPr>
            <a:endCxn id="242" idx="1"/>
          </p:cNvCxnSpPr>
          <p:nvPr/>
        </p:nvCxnSpPr>
        <p:spPr>
          <a:xfrm>
            <a:off x="1856880" y="3857760"/>
            <a:ext cx="14364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51" name="AutoShape 2"/>
          <p:cNvSpPr/>
          <p:nvPr/>
        </p:nvSpPr>
        <p:spPr>
          <a:xfrm>
            <a:off x="142920" y="142920"/>
            <a:ext cx="3257640" cy="428760"/>
          </a:xfrm>
          <a:prstGeom prst="foldedCorner">
            <a:avLst>
              <a:gd name="adj" fmla="val 12500"/>
            </a:avLst>
          </a:prstGeom>
          <a:solidFill>
            <a:srgbClr val="dce6f2"/>
          </a:soli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ORNADA LABORAL DE LOS DOC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rtículo  9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AutoShape 12"/>
          <p:cNvCxnSpPr/>
          <p:nvPr/>
        </p:nvCxnSpPr>
        <p:spPr>
          <a:xfrm>
            <a:off x="1785960" y="3857400"/>
            <a:ext cx="31032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53" name="AutoShape 4"/>
          <p:cNvSpPr/>
          <p:nvPr/>
        </p:nvSpPr>
        <p:spPr>
          <a:xfrm>
            <a:off x="142920" y="1571760"/>
            <a:ext cx="1409760" cy="1857240"/>
          </a:xfrm>
          <a:custGeom>
            <a:avLst/>
            <a:gdLst>
              <a:gd name="textAreaLeft" fmla="*/ 68760 w 1409760"/>
              <a:gd name="textAreaRight" fmla="*/ 1341000 w 1409760"/>
              <a:gd name="textAreaTop" fmla="*/ 68760 h 1857240"/>
              <a:gd name="textAreaBottom" fmla="*/ 1788480 h 1857240"/>
            </a:gdLst>
            <a:ahLst/>
            <a:rect l="textAreaLeft" t="textAreaTop" r="textAreaRight" b="textAreaBottom"/>
            <a:pathLst>
              <a:path w="21600" h="28454">
                <a:moveTo>
                  <a:pt x="3600" y="0"/>
                </a:moveTo>
                <a:arcTo wR="3600" hR="3600" stAng="16200000" swAng="-5400000"/>
                <a:lnTo>
                  <a:pt x="0" y="24854"/>
                </a:lnTo>
                <a:arcTo wR="3600" hR="3600" stAng="10800000" swAng="-5400000"/>
                <a:lnTo>
                  <a:pt x="18000" y="284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RNADA LABORAL DEL DOCENTE DE SECUN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ìculo 9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4"/>
          <p:cNvSpPr/>
          <p:nvPr/>
        </p:nvSpPr>
        <p:spPr>
          <a:xfrm>
            <a:off x="142920" y="2786040"/>
            <a:ext cx="1428840" cy="9288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S DE SECUN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071800" y="2857680"/>
            <a:ext cx="1214280" cy="78552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NACIÒN ACADÈ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0"/>
          <p:cNvSpPr/>
          <p:nvPr/>
        </p:nvSpPr>
        <p:spPr>
          <a:xfrm>
            <a:off x="3714840" y="928800"/>
            <a:ext cx="5072040" cy="5643360"/>
          </a:xfrm>
          <a:custGeom>
            <a:avLst/>
            <a:gdLst>
              <a:gd name="textAreaLeft" fmla="*/ 247320 w 5072040"/>
              <a:gd name="textAreaRight" fmla="*/ 4824720 w 5072040"/>
              <a:gd name="textAreaTop" fmla="*/ 247320 h 5643360"/>
              <a:gd name="textAreaBottom" fmla="*/ 5396040 h 5643360"/>
            </a:gdLst>
            <a:ahLst/>
            <a:rect l="textAreaLeft" t="textAreaTop" r="textAreaRight" b="textAreaBottom"/>
            <a:pathLst>
              <a:path w="21600" h="24033">
                <a:moveTo>
                  <a:pt x="3600" y="0"/>
                </a:moveTo>
                <a:arcTo wR="3600" hR="3600" stAng="16200000" swAng="-5400000"/>
                <a:lnTo>
                  <a:pt x="0" y="20433"/>
                </a:lnTo>
                <a:arcTo wR="3600" hR="3600" stAng="10800000" swAng="-5400000"/>
                <a:lnTo>
                  <a:pt x="18000" y="24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1da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30 HORAS DE CLASE DESARROLLANDO LAS 9 ÀREAS OBLIGATORIAS Y FUNDAMEN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AutoShape 11"/>
          <p:cNvCxnSpPr/>
          <p:nvPr/>
        </p:nvCxnSpPr>
        <p:spPr>
          <a:xfrm flipH="1">
            <a:off x="1785600" y="3000240"/>
            <a:ext cx="2160" cy="5724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58" name="AutoShape 12"/>
          <p:cNvCxnSpPr/>
          <p:nvPr/>
        </p:nvCxnSpPr>
        <p:spPr>
          <a:xfrm>
            <a:off x="1785960" y="2999880"/>
            <a:ext cx="286560" cy="25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59" name="AutoShape 13"/>
          <p:cNvCxnSpPr/>
          <p:nvPr/>
        </p:nvCxnSpPr>
        <p:spPr>
          <a:xfrm>
            <a:off x="1785960" y="3571920"/>
            <a:ext cx="28656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60" name="AutoShape 15"/>
          <p:cNvSpPr/>
          <p:nvPr/>
        </p:nvSpPr>
        <p:spPr>
          <a:xfrm>
            <a:off x="3286080" y="3071880"/>
            <a:ext cx="428760" cy="304560"/>
          </a:xfrm>
          <a:prstGeom prst="rightArrow">
            <a:avLst>
              <a:gd name="adj1" fmla="val 50000"/>
              <a:gd name="adj2" fmla="val 63351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57760" y="1571760"/>
          <a:ext cx="4857480" cy="4741560"/>
        </p:xfrm>
        <a:graphic>
          <a:graphicData uri="http://schemas.openxmlformats.org/drawingml/2006/table">
            <a:tbl>
              <a:tblPr/>
              <a:tblGrid>
                <a:gridCol w="1231920"/>
                <a:gridCol w="1393560"/>
                <a:gridCol w="854280"/>
                <a:gridCol w="609480"/>
                <a:gridCol w="768240"/>
              </a:tblGrid>
              <a:tr h="3538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RE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SIGNATUR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RAD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RUP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HORAS SEMAN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2998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Ciencias Naturales y Educación Ambien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º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Ciencias Soci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Historia, Geografía, Constitución Política y Democra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2998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.Educación Artí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952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 Educación Ética y en Valores Humano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65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 Educación física, recreación y deport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7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1" lang="es-ES" sz="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668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.Educación Religio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99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Humanidad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ngua Castell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glé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098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metrí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stadí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rigonometrí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álcu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.Tecnología e Informá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985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Optativ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399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cxnSp>
        <p:nvCxnSpPr>
          <p:cNvPr id="262" name="AutoShape 12"/>
          <p:cNvCxnSpPr>
            <a:stCxn id="254" idx="3"/>
          </p:cNvCxnSpPr>
          <p:nvPr/>
        </p:nvCxnSpPr>
        <p:spPr>
          <a:xfrm>
            <a:off x="1571400" y="3249360"/>
            <a:ext cx="214920" cy="37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63" name="AutoShape 2"/>
          <p:cNvSpPr/>
          <p:nvPr/>
        </p:nvSpPr>
        <p:spPr>
          <a:xfrm>
            <a:off x="5857920" y="214200"/>
            <a:ext cx="2757600" cy="642960"/>
          </a:xfrm>
          <a:prstGeom prst="foldedCorner">
            <a:avLst>
              <a:gd name="adj" fmla="val 12500"/>
            </a:avLst>
          </a:prstGeom>
          <a:solidFill>
            <a:srgbClr val="dce6f2"/>
          </a:soli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RTÌCULO 9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ORNADA LABORAL DE LOS DOC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4"/>
          <p:cNvSpPr/>
          <p:nvPr/>
        </p:nvSpPr>
        <p:spPr>
          <a:xfrm>
            <a:off x="142920" y="2786040"/>
            <a:ext cx="1428840" cy="9288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S DE SECUNDARIA Y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2071800" y="2857680"/>
            <a:ext cx="1214280" cy="78552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NACIÒN ACADÈ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0"/>
          <p:cNvSpPr/>
          <p:nvPr/>
        </p:nvSpPr>
        <p:spPr>
          <a:xfrm>
            <a:off x="3714840" y="928800"/>
            <a:ext cx="5072040" cy="5643360"/>
          </a:xfrm>
          <a:custGeom>
            <a:avLst/>
            <a:gdLst>
              <a:gd name="textAreaLeft" fmla="*/ 247320 w 5072040"/>
              <a:gd name="textAreaRight" fmla="*/ 4824720 w 5072040"/>
              <a:gd name="textAreaTop" fmla="*/ 247320 h 5643360"/>
              <a:gd name="textAreaBottom" fmla="*/ 5396040 h 5643360"/>
            </a:gdLst>
            <a:ahLst/>
            <a:rect l="textAreaLeft" t="textAreaTop" r="textAreaRight" b="textAreaBottom"/>
            <a:pathLst>
              <a:path w="21600" h="24033">
                <a:moveTo>
                  <a:pt x="3600" y="0"/>
                </a:moveTo>
                <a:arcTo wR="3600" hR="3600" stAng="16200000" swAng="-5400000"/>
                <a:lnTo>
                  <a:pt x="0" y="20433"/>
                </a:lnTo>
                <a:arcTo wR="3600" hR="3600" stAng="10800000" swAng="-5400000"/>
                <a:lnTo>
                  <a:pt x="18000" y="240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dcdb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22 HORAS DE CLASE DESARROLLANDO LAS 12 ÀREAS OBLIGATORIAS Y FUNDAMENT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11"/>
          <p:cNvCxnSpPr/>
          <p:nvPr/>
        </p:nvCxnSpPr>
        <p:spPr>
          <a:xfrm flipH="1">
            <a:off x="1785600" y="3000240"/>
            <a:ext cx="2160" cy="5724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68" name="AutoShape 12"/>
          <p:cNvCxnSpPr/>
          <p:nvPr/>
        </p:nvCxnSpPr>
        <p:spPr>
          <a:xfrm>
            <a:off x="1785960" y="2999880"/>
            <a:ext cx="286560" cy="25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269" name="AutoShape 13"/>
          <p:cNvCxnSpPr/>
          <p:nvPr/>
        </p:nvCxnSpPr>
        <p:spPr>
          <a:xfrm>
            <a:off x="1785960" y="3571920"/>
            <a:ext cx="286560" cy="2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70" name="AutoShape 15"/>
          <p:cNvSpPr/>
          <p:nvPr/>
        </p:nvSpPr>
        <p:spPr>
          <a:xfrm>
            <a:off x="3286080" y="3071880"/>
            <a:ext cx="428760" cy="304560"/>
          </a:xfrm>
          <a:prstGeom prst="rightArrow">
            <a:avLst>
              <a:gd name="adj1" fmla="val 50000"/>
              <a:gd name="adj2" fmla="val 63351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57760" y="1571760"/>
          <a:ext cx="4857480" cy="4519440"/>
        </p:xfrm>
        <a:graphic>
          <a:graphicData uri="http://schemas.openxmlformats.org/drawingml/2006/table">
            <a:tbl>
              <a:tblPr/>
              <a:tblGrid>
                <a:gridCol w="1214280"/>
                <a:gridCol w="1411200"/>
                <a:gridCol w="854280"/>
                <a:gridCol w="609480"/>
                <a:gridCol w="768240"/>
              </a:tblGrid>
              <a:tr h="2854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RE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SIGNATUR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RAD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RUP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HORAS SEMAN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3002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Ciencias Naturales y Educación Ambien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º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Ciencias Soci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Historia, Geografía, Constitución Política y Democra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1922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.Educación Artí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2854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 Educación Ética y en Valores Humano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2858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 Educación física, recreación y deport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s-MX" sz="7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1" lang="es-ES" sz="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214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.Educación Religio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2858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Humanidad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ngua Castell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glé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6098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metrí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stadí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rigonometrí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álcu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.Tecnología e Informá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2588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. Filosofí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2145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. Ciencias Polí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2. Ciencias Económ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Optativ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397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         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</a:tbl>
          </a:graphicData>
        </a:graphic>
      </p:graphicFrame>
      <p:cxnSp>
        <p:nvCxnSpPr>
          <p:cNvPr id="272" name="AutoShape 12"/>
          <p:cNvCxnSpPr>
            <a:stCxn id="264" idx="3"/>
          </p:cNvCxnSpPr>
          <p:nvPr/>
        </p:nvCxnSpPr>
        <p:spPr>
          <a:xfrm>
            <a:off x="1571400" y="3249360"/>
            <a:ext cx="214920" cy="37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273" name="AutoShape 2"/>
          <p:cNvSpPr/>
          <p:nvPr/>
        </p:nvSpPr>
        <p:spPr>
          <a:xfrm>
            <a:off x="5857920" y="214200"/>
            <a:ext cx="2757600" cy="642960"/>
          </a:xfrm>
          <a:prstGeom prst="foldedCorner">
            <a:avLst>
              <a:gd name="adj" fmla="val 12500"/>
            </a:avLst>
          </a:prstGeom>
          <a:solidFill>
            <a:srgbClr val="dce6f2"/>
          </a:soli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RTÌCULO 9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ORNADA LABORAL DE LOS DOC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1"/>
          <p:cNvSpPr/>
          <p:nvPr/>
        </p:nvSpPr>
        <p:spPr>
          <a:xfrm>
            <a:off x="3500280" y="1571760"/>
            <a:ext cx="2124360" cy="2071440"/>
          </a:xfrm>
          <a:prstGeom prst="plus">
            <a:avLst>
              <a:gd name="adj" fmla="val 18282"/>
            </a:avLst>
          </a:prstGeom>
          <a:solidFill>
            <a:srgbClr val="c3d69b"/>
          </a:soli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e5b8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1850 DE AGOSTO 13 DE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2"/>
          <p:cNvSpPr/>
          <p:nvPr/>
        </p:nvSpPr>
        <p:spPr>
          <a:xfrm rot="16200000">
            <a:off x="3565440" y="2363400"/>
            <a:ext cx="1714680" cy="4845240"/>
          </a:xfrm>
          <a:prstGeom prst="can">
            <a:avLst>
              <a:gd name="adj" fmla="val 6342"/>
            </a:avLst>
          </a:prstGeom>
          <a:solidFill>
            <a:srgbClr val="d99694"/>
          </a:solidFill>
          <a:ln w="12600">
            <a:solidFill>
              <a:srgbClr val="4f81bd"/>
            </a:solidFill>
            <a:miter/>
          </a:ln>
          <a:effectLst>
            <a:outerShdw dist="153753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CAPÌTULO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300" spc="-1" strike="noStrike">
                <a:solidFill>
                  <a:srgbClr val="000000"/>
                </a:solidFill>
                <a:latin typeface="Arial"/>
              </a:rPr>
              <a:t>JORNADA   ESCOL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4"/>
          <p:cNvSpPr/>
          <p:nvPr/>
        </p:nvSpPr>
        <p:spPr>
          <a:xfrm>
            <a:off x="142920" y="2214720"/>
            <a:ext cx="2143080" cy="207144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RNADA LABORAL DEL DOCENTE DEL AREA DE MATEMÀTICAS SECUNDARIA Y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ìculo 9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428920" y="571680"/>
          <a:ext cx="5857920" cy="5978520"/>
        </p:xfrm>
        <a:graphic>
          <a:graphicData uri="http://schemas.openxmlformats.org/drawingml/2006/table">
            <a:tbl>
              <a:tblPr/>
              <a:tblGrid>
                <a:gridCol w="1071360"/>
                <a:gridCol w="881280"/>
                <a:gridCol w="976320"/>
                <a:gridCol w="976320"/>
                <a:gridCol w="976320"/>
                <a:gridCol w="976320"/>
              </a:tblGrid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U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ERC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E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ER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15-7: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.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º.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reuniones  de profesores generales  o  por áre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ducación física, recreación y deportes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:15-8: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º 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ducación física, recreación y deportes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15-9: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dirección de grupo y servicio de orientación estudiantil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º.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administración del proceso educativ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º 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ducación Ética y en Valores Humano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896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15-9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AN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30-10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º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ducación Ética y en Valores Humano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realización de otras actividades vinculadas con organismos o instituciones del 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ctividades de planeación y evaluación institucional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dirección de grupo 11ºC  y servicio de orientación estudiantil.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30-11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º.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atención de la comunidad,  en especial de los padres de famili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º.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ctividades de planeación y evaluación institucional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º 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30-12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º 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º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º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º.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mát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º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0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 PEDAGÒGICO: Violencia y Sociedad como electiva de las pruebas del Icfes.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HORAS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2"/>
          <p:cNvSpPr/>
          <p:nvPr/>
        </p:nvSpPr>
        <p:spPr>
          <a:xfrm>
            <a:off x="571680" y="3571920"/>
            <a:ext cx="1895400" cy="2290680"/>
          </a:xfrm>
          <a:prstGeom prst="flowChartConnector">
            <a:avLst/>
          </a:prstGeom>
          <a:solidFill>
            <a:srgbClr val="bfbfbf"/>
          </a:solidFill>
          <a:ln w="12600">
            <a:solidFill>
              <a:srgbClr val="d99594"/>
            </a:solidFill>
            <a:miter/>
          </a:ln>
          <a:effectLst>
            <a:outerShdw dist="107932" dir="189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0 HORAS SEMANAL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 EL CUMPLIMIENTO DE LAS FUNCIONES PROPIAS DEL CARGO D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3571920" y="1285920"/>
            <a:ext cx="3214800" cy="642960"/>
          </a:xfrm>
          <a:prstGeom prst="leftArrowCallout">
            <a:avLst>
              <a:gd name="adj1" fmla="val 93759"/>
              <a:gd name="adj2" fmla="val 46875"/>
              <a:gd name="adj3" fmla="val 76134"/>
              <a:gd name="adj4" fmla="val 85550"/>
            </a:avLst>
          </a:prstGeom>
          <a:solidFill>
            <a:srgbClr val="9bbb59"/>
          </a:solidFill>
          <a:ln w="12600">
            <a:solidFill>
              <a:srgbClr val="4bacc6"/>
            </a:solidFill>
            <a:miter/>
          </a:ln>
          <a:effectLst>
            <a:outerShdw dist="153753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PLANEACIÒ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286080" y="714240"/>
            <a:ext cx="3214800" cy="571680"/>
          </a:xfrm>
          <a:prstGeom prst="leftArrowCallout">
            <a:avLst>
              <a:gd name="adj1" fmla="val 31253"/>
              <a:gd name="adj2" fmla="val 46875"/>
              <a:gd name="adj3" fmla="val 76124"/>
              <a:gd name="adj4" fmla="val 85550"/>
            </a:avLst>
          </a:prstGeom>
          <a:solidFill>
            <a:srgbClr val="d99694"/>
          </a:solidFill>
          <a:ln w="12600">
            <a:solidFill>
              <a:srgbClr val="4bacc6"/>
            </a:solidFill>
            <a:miter/>
          </a:ln>
          <a:effectLst>
            <a:outerShdw dist="153753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DIRECCIÒ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3857760" y="1928880"/>
            <a:ext cx="3214440" cy="642960"/>
          </a:xfrm>
          <a:prstGeom prst="leftArrowCallout">
            <a:avLst>
              <a:gd name="adj1" fmla="val 31253"/>
              <a:gd name="adj2" fmla="val 46875"/>
              <a:gd name="adj3" fmla="val 76126"/>
              <a:gd name="adj4" fmla="val 85550"/>
            </a:avLst>
          </a:prstGeom>
          <a:solidFill>
            <a:srgbClr val="fac090"/>
          </a:solidFill>
          <a:ln w="12600">
            <a:solidFill>
              <a:srgbClr val="4bacc6"/>
            </a:solidFill>
            <a:miter/>
          </a:ln>
          <a:effectLst>
            <a:outerShdw dist="153753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PROGRAMACIÒ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4286160" y="2571840"/>
            <a:ext cx="3214800" cy="642960"/>
          </a:xfrm>
          <a:prstGeom prst="leftArrowCallout">
            <a:avLst>
              <a:gd name="adj1" fmla="val 31253"/>
              <a:gd name="adj2" fmla="val 46875"/>
              <a:gd name="adj3" fmla="val 76134"/>
              <a:gd name="adj4" fmla="val 85550"/>
            </a:avLst>
          </a:prstGeom>
          <a:solidFill>
            <a:srgbClr val="c4bd97"/>
          </a:solidFill>
          <a:ln w="12600">
            <a:solidFill>
              <a:srgbClr val="4bacc6"/>
            </a:solidFill>
            <a:miter/>
          </a:ln>
          <a:effectLst>
            <a:outerShdw dist="153753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ORGANIZACIÒ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4429080" y="3214800"/>
            <a:ext cx="3214800" cy="571320"/>
          </a:xfrm>
          <a:prstGeom prst="leftArrowCallout">
            <a:avLst>
              <a:gd name="adj1" fmla="val 31253"/>
              <a:gd name="adj2" fmla="val 46875"/>
              <a:gd name="adj3" fmla="val 76172"/>
              <a:gd name="adj4" fmla="val 85550"/>
            </a:avLst>
          </a:prstGeom>
          <a:solidFill>
            <a:srgbClr val="b3a2c7"/>
          </a:solidFill>
          <a:ln w="12600">
            <a:solidFill>
              <a:srgbClr val="4bacc6"/>
            </a:solidFill>
            <a:miter/>
          </a:ln>
          <a:effectLst>
            <a:outerShdw dist="153753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COORDINACIÒ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5143680" y="4286160"/>
            <a:ext cx="3214440" cy="571680"/>
          </a:xfrm>
          <a:prstGeom prst="leftArrowCallout">
            <a:avLst>
              <a:gd name="adj1" fmla="val 31253"/>
              <a:gd name="adj2" fmla="val 46875"/>
              <a:gd name="adj3" fmla="val 76116"/>
              <a:gd name="adj4" fmla="val 85550"/>
            </a:avLst>
          </a:prstGeom>
          <a:solidFill>
            <a:srgbClr val="95b3d7"/>
          </a:solidFill>
          <a:ln w="12600">
            <a:solidFill>
              <a:srgbClr val="4bacc6"/>
            </a:solidFill>
            <a:miter/>
          </a:ln>
          <a:effectLst>
            <a:outerShdw dist="153753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VALUACIÒN DE LAS ACTIVIDADES DEL 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4714920" y="3786120"/>
            <a:ext cx="3214800" cy="500040"/>
          </a:xfrm>
          <a:prstGeom prst="leftArrowCallout">
            <a:avLst>
              <a:gd name="adj1" fmla="val 31253"/>
              <a:gd name="adj2" fmla="val 46875"/>
              <a:gd name="adj3" fmla="val 76137"/>
              <a:gd name="adj4" fmla="val 85550"/>
            </a:avLst>
          </a:prstGeom>
          <a:solidFill>
            <a:srgbClr val="e46c0a"/>
          </a:solidFill>
          <a:ln w="12600">
            <a:solidFill>
              <a:srgbClr val="4bacc6"/>
            </a:solidFill>
            <a:miter/>
          </a:ln>
          <a:effectLst>
            <a:outerShdw dist="153753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ORIENTACIÒ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"/>
          <p:cNvSpPr/>
          <p:nvPr/>
        </p:nvSpPr>
        <p:spPr>
          <a:xfrm>
            <a:off x="500040" y="1000080"/>
            <a:ext cx="1928880" cy="2428920"/>
          </a:xfrm>
          <a:prstGeom prst="flowChartConnector">
            <a:avLst/>
          </a:prstGeom>
          <a:solidFill>
            <a:srgbClr val="d99694"/>
          </a:solidFill>
          <a:ln w="12600">
            <a:solidFill>
              <a:srgbClr val="d99594"/>
            </a:solidFill>
            <a:miter/>
          </a:ln>
          <a:effectLst>
            <a:outerShdw dist="107932" dir="189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JORNADA LABORAL DE LOS DIRECTIVOS DOC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rtìculo 1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"/>
          <p:cNvSpPr/>
          <p:nvPr/>
        </p:nvSpPr>
        <p:spPr>
          <a:xfrm>
            <a:off x="1857240" y="2214720"/>
            <a:ext cx="2357640" cy="2428560"/>
          </a:xfrm>
          <a:prstGeom prst="flowChartConnector">
            <a:avLst/>
          </a:prstGeom>
          <a:solidFill>
            <a:srgbClr val="9bbb59"/>
          </a:solidFill>
          <a:ln w="12600">
            <a:solidFill>
              <a:srgbClr val="d99594"/>
            </a:solidFill>
            <a:miter/>
          </a:ln>
          <a:effectLst>
            <a:outerShdw dist="107932" dir="189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Arial"/>
              </a:rPr>
              <a:t>REC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100" spc="-1" strike="noStrike">
                <a:solidFill>
                  <a:srgbClr val="000000"/>
                </a:solidFill>
                <a:latin typeface="Arial"/>
              </a:rPr>
              <a:t>DIRECTOR RU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100" spc="-1" strike="noStrike">
                <a:solidFill>
                  <a:srgbClr val="000000"/>
                </a:solidFill>
                <a:latin typeface="Arial"/>
              </a:rPr>
              <a:t>COORDINAD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5"/>
          <p:cNvSpPr/>
          <p:nvPr/>
        </p:nvSpPr>
        <p:spPr>
          <a:xfrm rot="16200000">
            <a:off x="5214600" y="-571320"/>
            <a:ext cx="1214640" cy="5357880"/>
          </a:xfrm>
          <a:prstGeom prst="can">
            <a:avLst>
              <a:gd name="adj" fmla="val 13439"/>
            </a:avLst>
          </a:prstGeom>
          <a:solidFill>
            <a:srgbClr val="fac090"/>
          </a:solidFill>
          <a:ln w="31680">
            <a:solidFill>
              <a:srgbClr val="8064a2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EL RECTOR,  DIRECTOR RURAL Y EL COORDINADOR CUMPLIRÀN  CON UNA DEDICACIÒN MÌNIMA DE 8 HORAS DIARIAS.  DISTRIBUIRÀN SU PERMANENCIA EN LAS JORNADAS O PLANTAS FÌSICAS A SU CARGO (PARÀGRAFO PRIMERO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 rot="16200000">
            <a:off x="5286240" y="642600"/>
            <a:ext cx="1071720" cy="5643720"/>
          </a:xfrm>
          <a:prstGeom prst="can">
            <a:avLst>
              <a:gd name="adj" fmla="val 11273"/>
            </a:avLst>
          </a:prstGeom>
          <a:solidFill>
            <a:srgbClr val="c4bd97"/>
          </a:solidFill>
          <a:ln w="31680">
            <a:solidFill>
              <a:srgbClr val="c0504d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ÌNIMO 6 HORAS DI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DE NIVELES: PREESCOLAR, BÀSICA Y MEDIA EN EL CUMPLIMIENTO DE LA ASIGNACIÒN ACADÈMICA Y EN LA EJECUCIÒN DE ACTIVIDADES CURICULARES COMPLEMENTARI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 rot="16200000">
            <a:off x="5393520" y="3107520"/>
            <a:ext cx="1000080" cy="5500800"/>
          </a:xfrm>
          <a:prstGeom prst="can">
            <a:avLst>
              <a:gd name="adj" fmla="val 11986"/>
            </a:avLst>
          </a:prstGeom>
          <a:solidFill>
            <a:srgbClr val="c3d69b"/>
          </a:solidFill>
          <a:ln w="31680">
            <a:solidFill>
              <a:srgbClr val="f79646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CUMPLIRÀN SUS FUNCIONES DE APOYO AL SERVICIO DE ORIENTACIÒN ESTUDIANTIL CONFORME EL HORARIO QUE LES ASIGNE EL RECTOR DE MÌNIMO 8 HORAS DIARIAS EN EL 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 rot="16200000">
            <a:off x="5321880" y="1892520"/>
            <a:ext cx="1000440" cy="5500800"/>
          </a:xfrm>
          <a:prstGeom prst="can">
            <a:avLst>
              <a:gd name="adj" fmla="val 11375"/>
            </a:avLst>
          </a:prstGeom>
          <a:solidFill>
            <a:srgbClr val="95b3d7"/>
          </a:solidFill>
          <a:ln w="31680">
            <a:solidFill>
              <a:srgbClr val="9bbb59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 COMPLETAR EL TIEMPO RESTANTE DE LA JORNADA LABORAL, LOS DOCENTES REALIZARÀN FUERA O DENTRO DE LA INSTITUCIÒN ACTIVIDADES PROPIAS DE SU CARGO EN ACTIVIDADES CURRICULARES COMPLEMEN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214200" y="2214720"/>
            <a:ext cx="2000520" cy="2155680"/>
          </a:xfrm>
          <a:prstGeom prst="rightArrowCallout">
            <a:avLst>
              <a:gd name="adj1" fmla="val 29665"/>
              <a:gd name="adj2" fmla="val 59320"/>
              <a:gd name="adj3" fmla="val 28213"/>
              <a:gd name="adj4" fmla="val 47153"/>
            </a:avLst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ORNADA LABORAL MÌNIM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8 HORAS DI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"/>
          <p:cNvSpPr/>
          <p:nvPr/>
        </p:nvSpPr>
        <p:spPr>
          <a:xfrm>
            <a:off x="428760" y="785880"/>
            <a:ext cx="2757240" cy="642960"/>
          </a:xfrm>
          <a:prstGeom prst="foldedCorner">
            <a:avLst>
              <a:gd name="adj" fmla="val 12500"/>
            </a:avLst>
          </a:prstGeom>
          <a:solidFill>
            <a:srgbClr val="dce6f2"/>
          </a:soli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RTÌCULO 11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UMPLIMIENTO DE LA JORNADA LABO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 rot="20421600">
            <a:off x="1668240" y="2226960"/>
            <a:ext cx="1960560" cy="4953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IVOS DOC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2000160" y="3143160"/>
            <a:ext cx="1357560" cy="57168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 rot="2005200">
            <a:off x="1317600" y="4892760"/>
            <a:ext cx="2435400" cy="57456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IENTADORES ESCO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 rot="1236000">
            <a:off x="1765080" y="3975120"/>
            <a:ext cx="1663560" cy="56052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EN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4"/>
          <p:cNvSpPr/>
          <p:nvPr/>
        </p:nvSpPr>
        <p:spPr>
          <a:xfrm>
            <a:off x="142920" y="3929040"/>
            <a:ext cx="2714760" cy="800280"/>
          </a:xfrm>
          <a:custGeom>
            <a:avLst/>
            <a:gdLst>
              <a:gd name="textAreaLeft" fmla="*/ 159120 w 2714760"/>
              <a:gd name="textAreaRight" fmla="*/ 2555640 w 2714760"/>
              <a:gd name="textAreaTop" fmla="*/ 159120 h 800280"/>
              <a:gd name="textAreaBottom" fmla="*/ 641160 h 800280"/>
            </a:gdLst>
            <a:ahLst/>
            <a:rect l="textAreaLeft" t="textAreaTop" r="textAreaRight" b="textAreaBottom"/>
            <a:pathLst>
              <a:path w="73250" h="21600">
                <a:moveTo>
                  <a:pt x="6075" y="0"/>
                </a:moveTo>
                <a:arcTo wR="6075" hR="6075" stAng="0" swAng="5400000"/>
                <a:lnTo>
                  <a:pt x="0" y="15525"/>
                </a:lnTo>
                <a:arcTo wR="6075" hR="6075" stAng="16200000" swAng="5400000"/>
                <a:lnTo>
                  <a:pt x="67175" y="21600"/>
                </a:lnTo>
                <a:arcTo wR="6075" hR="6075" stAng="10800000" swAng="5400000"/>
                <a:lnTo>
                  <a:pt x="73250" y="6075"/>
                </a:lnTo>
                <a:arcTo wR="6075" hR="6075" stAng="5400000" swAng="5400000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EMPO ESC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2786040" y="1357200"/>
            <a:ext cx="4786200" cy="785880"/>
          </a:xfrm>
          <a:prstGeom prst="flowChartAlternateProcess">
            <a:avLst/>
          </a:prstGeom>
          <a:solidFill>
            <a:srgbClr val="e6b9b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800 HO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EN PRE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916360" y="3000240"/>
            <a:ext cx="4508280" cy="857520"/>
          </a:xfrm>
          <a:prstGeom prst="flowChartAlternateProcess">
            <a:avLst/>
          </a:prstGeom>
          <a:solidFill>
            <a:srgbClr val="b7dee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0 HO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 PRIM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2916360" y="4000680"/>
            <a:ext cx="4579920" cy="796680"/>
          </a:xfrm>
          <a:prstGeom prst="flowChartAlternateProcess">
            <a:avLst/>
          </a:prstGeom>
          <a:solidFill>
            <a:srgbClr val="c4bd97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.200 HO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EN SECUNDARÌA Y MEDIA ACADÈ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2928960" y="5286240"/>
            <a:ext cx="4738680" cy="928800"/>
          </a:xfrm>
          <a:prstGeom prst="flowChartAlternateProcess">
            <a:avLst/>
          </a:prstGeom>
          <a:solidFill>
            <a:srgbClr val="b3a2c7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1400 HO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EN MEDIA TÈC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 rot="16396800">
            <a:off x="2646000" y="3820680"/>
            <a:ext cx="587520" cy="2524320"/>
          </a:xfrm>
          <a:custGeom>
            <a:avLst/>
            <a:gdLst>
              <a:gd name="textAreaLeft" fmla="*/ 78480 w 587520"/>
              <a:gd name="textAreaRight" fmla="*/ 509040 w 587520"/>
              <a:gd name="textAreaTop" fmla="*/ 514440 h 2524320"/>
              <a:gd name="textAreaBottom" fmla="*/ 1854360 h 252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08" stAng="-5400000" swAng="-5400000"/>
                <a:lnTo>
                  <a:pt x="0" y="11464"/>
                </a:lnTo>
                <a:arcTo wR="21600" hR="8808" stAng="10800000" swAng="-2944338"/>
                <a:lnTo>
                  <a:pt x="14400" y="21096"/>
                </a:lnTo>
                <a:lnTo>
                  <a:pt x="21600" y="18943"/>
                </a:lnTo>
                <a:lnTo>
                  <a:pt x="14400" y="15782"/>
                </a:lnTo>
                <a:lnTo>
                  <a:pt x="14400" y="17111"/>
                </a:lnTo>
                <a:arcTo wR="21600" hR="8808" stAng="7855662" swAng="2730811"/>
                <a:lnTo>
                  <a:pt x="247" y="10136"/>
                </a:lnTo>
                <a:arcTo wR="21600" hR="8808" stAng="-10586473" swAng="5186473"/>
                <a:close/>
              </a:path>
              <a:path fill="darkenLess" w="21600" h="21600">
                <a:moveTo>
                  <a:pt x="21600" y="0"/>
                </a:moveTo>
                <a:arcTo wR="21600" hR="8808" stAng="-5400000" swAng="-5400000"/>
                <a:lnTo>
                  <a:pt x="0" y="8808"/>
                </a:lnTo>
                <a:arcTo wR="21600" hR="8808" stAng="10800000" swAng="-213527"/>
                <a:lnTo>
                  <a:pt x="247" y="10136"/>
                </a:lnTo>
                <a:arcTo wR="21600" hR="8808" stAng="-10586473" swAng="5186473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0"/>
          <p:cNvSpPr/>
          <p:nvPr/>
        </p:nvSpPr>
        <p:spPr>
          <a:xfrm rot="17058000">
            <a:off x="2549520" y="3686040"/>
            <a:ext cx="785880" cy="4887720"/>
          </a:xfrm>
          <a:custGeom>
            <a:avLst/>
            <a:gdLst>
              <a:gd name="textAreaLeft" fmla="*/ 105120 w 785880"/>
              <a:gd name="textAreaRight" fmla="*/ 680760 w 785880"/>
              <a:gd name="textAreaTop" fmla="*/ 949320 h 4887720"/>
              <a:gd name="textAreaBottom" fmla="*/ 3575160 h 488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93" stAng="-5400000" swAng="-5400000"/>
                <a:lnTo>
                  <a:pt x="0" y="11602"/>
                </a:lnTo>
                <a:arcTo wR="21600" hR="8393" stAng="10800000" swAng="-2794655"/>
                <a:lnTo>
                  <a:pt x="14145" y="21084"/>
                </a:lnTo>
                <a:lnTo>
                  <a:pt x="21600" y="18391"/>
                </a:lnTo>
                <a:lnTo>
                  <a:pt x="14145" y="14665"/>
                </a:lnTo>
                <a:lnTo>
                  <a:pt x="14145" y="16270"/>
                </a:lnTo>
                <a:arcTo wR="21600" hR="8393" stAng="8005345" swAng="2534987"/>
                <a:lnTo>
                  <a:pt x="398" y="9998"/>
                </a:lnTo>
                <a:arcTo wR="21600" hR="8393" stAng="-10540333" swAng="5140333"/>
                <a:close/>
              </a:path>
              <a:path fill="darkenLess" w="21600" h="21600">
                <a:moveTo>
                  <a:pt x="21600" y="0"/>
                </a:moveTo>
                <a:arcTo wR="21600" hR="8393" stAng="-5400000" swAng="-5400000"/>
                <a:lnTo>
                  <a:pt x="0" y="8393"/>
                </a:lnTo>
                <a:arcTo wR="21600" hR="8393" stAng="10800000" swAng="-259667"/>
                <a:lnTo>
                  <a:pt x="398" y="9998"/>
                </a:lnTo>
                <a:arcTo wR="21600" hR="8393" stAng="-10540333" swAng="5140333"/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20742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1"/>
          <p:cNvSpPr/>
          <p:nvPr/>
        </p:nvSpPr>
        <p:spPr>
          <a:xfrm rot="18999000">
            <a:off x="237600" y="1941480"/>
            <a:ext cx="2953080" cy="1046160"/>
          </a:xfrm>
          <a:custGeom>
            <a:avLst/>
            <a:gdLst>
              <a:gd name="textAreaLeft" fmla="*/ 475560 w 2953080"/>
              <a:gd name="textAreaRight" fmla="*/ 1956600 w 2953080"/>
              <a:gd name="textAreaTop" fmla="*/ 140040 h 1046160"/>
              <a:gd name="textAreaBottom" fmla="*/ 906120 h 104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958" hR="21600" stAng="10800000" swAng="5400000"/>
                <a:lnTo>
                  <a:pt x="10831" y="0"/>
                </a:lnTo>
                <a:arcTo wR="6958" hR="21600" stAng="-5400000" swAng="2540237"/>
                <a:lnTo>
                  <a:pt x="21202" y="14400"/>
                </a:lnTo>
                <a:lnTo>
                  <a:pt x="15853" y="21600"/>
                </a:lnTo>
                <a:lnTo>
                  <a:pt x="9707" y="14400"/>
                </a:lnTo>
                <a:lnTo>
                  <a:pt x="13518" y="14400"/>
                </a:lnTo>
                <a:arcTo wR="6958" hR="21600" stAng="-2859763" swAng="-2220283"/>
                <a:lnTo>
                  <a:pt x="8895" y="853"/>
                </a:lnTo>
                <a:arcTo wR="6958" hR="21600" stAng="-5719954" swAng="-5080046"/>
                <a:close/>
              </a:path>
              <a:path fill="darkenLess" w="21600" h="21600">
                <a:moveTo>
                  <a:pt x="0" y="21600"/>
                </a:moveTo>
                <a:arcTo wR="6958" hR="21600" stAng="10800000" swAng="5400000"/>
                <a:lnTo>
                  <a:pt x="6958" y="0"/>
                </a:lnTo>
                <a:arcTo wR="6958" hR="21600" stAng="-5400000" swAng="319954"/>
                <a:lnTo>
                  <a:pt x="8895" y="853"/>
                </a:lnTo>
                <a:arcTo wR="6958" hR="21600" stAng="-5719954" swAng="-5080046"/>
                <a:close/>
              </a:path>
            </a:pathLst>
          </a:cu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2"/>
          <p:cNvSpPr/>
          <p:nvPr/>
        </p:nvSpPr>
        <p:spPr>
          <a:xfrm rot="20155800">
            <a:off x="1320480" y="2922120"/>
            <a:ext cx="2900160" cy="568440"/>
          </a:xfrm>
          <a:custGeom>
            <a:avLst/>
            <a:gdLst>
              <a:gd name="textAreaLeft" fmla="*/ 616320 w 2900160"/>
              <a:gd name="textAreaRight" fmla="*/ 2139120 w 2900160"/>
              <a:gd name="textAreaTop" fmla="*/ 75960 h 568440"/>
              <a:gd name="textAreaBottom" fmla="*/ 492480 h 56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2" hR="21600" stAng="10800000" swAng="5400000"/>
                <a:lnTo>
                  <a:pt x="11340" y="0"/>
                </a:lnTo>
                <a:arcTo wR="9182" hR="21600" stAng="-5400000" swAng="3014872"/>
                <a:lnTo>
                  <a:pt x="21075" y="14400"/>
                </a:lnTo>
                <a:lnTo>
                  <a:pt x="19442" y="21600"/>
                </a:lnTo>
                <a:lnTo>
                  <a:pt x="16759" y="14400"/>
                </a:lnTo>
                <a:lnTo>
                  <a:pt x="17838" y="14400"/>
                </a:lnTo>
                <a:arcTo wR="9182" hR="21600" stAng="-2385128" swAng="-2842091"/>
                <a:lnTo>
                  <a:pt x="10261" y="150"/>
                </a:lnTo>
                <a:arcTo wR="9182" hR="21600" stAng="-5572781" swAng="-5227219"/>
                <a:close/>
              </a:path>
              <a:path fill="darkenLess" w="21600" h="21600">
                <a:moveTo>
                  <a:pt x="0" y="21600"/>
                </a:moveTo>
                <a:arcTo wR="9182" hR="21600" stAng="10800000" swAng="5400000"/>
                <a:lnTo>
                  <a:pt x="9182" y="0"/>
                </a:lnTo>
                <a:arcTo wR="9182" hR="21600" stAng="-5400000" swAng="172781"/>
                <a:lnTo>
                  <a:pt x="10261" y="150"/>
                </a:lnTo>
                <a:arcTo wR="9182" hR="21600" stAng="-5572781" swAng="-5227219"/>
                <a:close/>
              </a:path>
            </a:pathLst>
          </a:cu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214200" y="3000240"/>
            <a:ext cx="2424240" cy="1729080"/>
          </a:xfrm>
          <a:prstGeom prst="flowChartMultidocumen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81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GANIZACIÒ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ìculo 12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1071720" y="857160"/>
            <a:ext cx="2100240" cy="1976400"/>
          </a:xfrm>
          <a:prstGeom prst="pie">
            <a:avLst/>
          </a:pr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RETARIA DE EDUCACIÒN MUNICIP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perior Inmedia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6"/>
          <p:cNvSpPr/>
          <p:nvPr/>
        </p:nvSpPr>
        <p:spPr>
          <a:xfrm>
            <a:off x="4357800" y="3286080"/>
            <a:ext cx="2714400" cy="284328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L PERSONAL DIRECTIVO DOCENTE Y DOCENTE DESTINADO PARA LA ATENCCIÒN DE LAS ACTIVIDADES PROPIAS DEL SERVICIO PÙBLICO DE EDUCACIÒN EN CADA E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000240" y="714240"/>
            <a:ext cx="2357640" cy="2500560"/>
          </a:xfrm>
          <a:prstGeom prst="pie">
            <a:avLst/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QUIPO TÈC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INSPECCIÒN Y VIGILA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SUPERVISORES DE EDUCACIÒ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UNIDADES DESCONCENTRADAS DE DIRECTORES DE NÙCLEOS - Acompañ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5357880" y="642960"/>
            <a:ext cx="2214360" cy="2286000"/>
          </a:xfrm>
          <a:prstGeom prst="pie">
            <a:avLst/>
          </a:prstGeom>
          <a:solidFill>
            <a:srgbClr val="9537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RETARIA DE EDUCACIÒN  MUNI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6715080" y="2428920"/>
            <a:ext cx="2100240" cy="2428920"/>
          </a:xfrm>
          <a:prstGeom prst="pie">
            <a:avLst/>
          </a:prstGeom>
          <a:solidFill>
            <a:srgbClr val="2159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TOR / DIRECTOR 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erior Inmedi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1785960" y="3929040"/>
            <a:ext cx="2571840" cy="2428920"/>
          </a:xfrm>
          <a:prstGeom prst="pie">
            <a:avLst/>
          </a:prstGeom>
          <a:solidFill>
            <a:srgbClr val="4f62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LOS ALCALDES, EN SU JURISDICCIÒN, EJERCERÀN LAS FUNCIONES DE SEGUIMIENTO Y CONTROL SOBRE ELCUMPLIMIENTO DE LA  JORNADA ESCOLAR Y LA JORNADA LABORAL DE LOS DIRECTIVOS DOCENTES  Y DOCENTES  DE LOS E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Oval 4"/>
          <p:cNvSpPr/>
          <p:nvPr/>
        </p:nvSpPr>
        <p:spPr>
          <a:xfrm>
            <a:off x="214200" y="3000240"/>
            <a:ext cx="2571840" cy="3195720"/>
          </a:xfrm>
          <a:prstGeom prst="ellipse">
            <a:avLst/>
          </a:pr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JORNADA LABORAL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Y DIRECTOR DE NÙC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Artículo 13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4000680" y="857160"/>
            <a:ext cx="43862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RETARIA DE EDUCACIÒN DEPARTAM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erior Inmedi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071960" y="1928880"/>
            <a:ext cx="4500720" cy="71424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LAMENTO TERRI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LUCIÒN Nº. 00088  DE SEPTIEMBRE 28 DE 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3000240" y="4572000"/>
            <a:ext cx="4152960" cy="1928880"/>
          </a:xfrm>
          <a:prstGeom prst="irregularSeal1">
            <a:avLst/>
          </a:prstGeom>
          <a:solidFill>
            <a:srgbClr val="77933c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 HORAS DI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0"/>
          <p:cNvSpPr/>
          <p:nvPr/>
        </p:nvSpPr>
        <p:spPr>
          <a:xfrm rot="19071000">
            <a:off x="1092240" y="1157400"/>
            <a:ext cx="3408480" cy="885600"/>
          </a:xfrm>
          <a:custGeom>
            <a:avLst/>
            <a:gdLst>
              <a:gd name="textAreaLeft" fmla="*/ 642600 w 3408480"/>
              <a:gd name="textAreaRight" fmla="*/ 2486520 w 3408480"/>
              <a:gd name="textAreaTop" fmla="*/ 118440 h 885600"/>
              <a:gd name="textAreaBottom" fmla="*/ 767160 h 88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45" hR="21600" stAng="10800000" swAng="5400000"/>
                <a:lnTo>
                  <a:pt x="11685" y="0"/>
                </a:lnTo>
                <a:arcTo wR="8145" hR="21600" stAng="-5400000" swAng="1962409"/>
                <a:lnTo>
                  <a:pt x="20479" y="10663"/>
                </a:lnTo>
                <a:lnTo>
                  <a:pt x="18059" y="21600"/>
                </a:lnTo>
                <a:lnTo>
                  <a:pt x="13397" y="10663"/>
                </a:lnTo>
                <a:lnTo>
                  <a:pt x="15168" y="10663"/>
                </a:lnTo>
                <a:arcTo wR="8145" hR="21600" stAng="-3437591" swAng="-1674482"/>
                <a:lnTo>
                  <a:pt x="9915" y="516"/>
                </a:lnTo>
                <a:arcTo wR="8145" hR="21600" stAng="-5687927" swAng="-5112073"/>
                <a:close/>
              </a:path>
              <a:path fill="darkenLess" w="21600" h="21600">
                <a:moveTo>
                  <a:pt x="0" y="21600"/>
                </a:moveTo>
                <a:arcTo wR="8145" hR="21600" stAng="10800000" swAng="5400000"/>
                <a:lnTo>
                  <a:pt x="8145" y="0"/>
                </a:lnTo>
                <a:arcTo wR="8145" hR="21600" stAng="-5400000" swAng="287927"/>
                <a:lnTo>
                  <a:pt x="9915" y="516"/>
                </a:lnTo>
                <a:arcTo wR="8145" hR="21600" stAng="-5687927" swAng="-5112073"/>
                <a:close/>
              </a:path>
            </a:pathLst>
          </a:custGeom>
          <a:solidFill>
            <a:srgbClr val="fdeada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4000680" y="3071880"/>
            <a:ext cx="4643280" cy="1214280"/>
          </a:xfrm>
          <a:prstGeom prst="rect">
            <a:avLst/>
          </a:prstGeom>
          <a:solidFill>
            <a:srgbClr val="c3d69b"/>
          </a:soli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QUIPO TÈCNICOPEDAGÒGICO DE INSPECCIÒN Y VIGILANCIA DE LA EDUCACIÒN CON FINES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 SUPERVISORES DE EDUCACIÒ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 UNIDADES DESCONCENTRADAS DE DIRECTORES DE NÙCLEOS REALIZAN EL  ACOMPAÑAMIENTO A LOS 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 rot="8353800">
            <a:off x="6658920" y="5035320"/>
            <a:ext cx="2560680" cy="718920"/>
          </a:xfrm>
          <a:custGeom>
            <a:avLst/>
            <a:gdLst>
              <a:gd name="textAreaLeft" fmla="*/ 469800 w 2560680"/>
              <a:gd name="textAreaRight" fmla="*/ 1863720 w 256068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1" hR="21600" stAng="10800000" swAng="5400000"/>
                <a:lnTo>
                  <a:pt x="11757" y="0"/>
                </a:lnTo>
                <a:arcTo wR="7931" hR="21600" stAng="-5400000" swAng="2764861"/>
                <a:lnTo>
                  <a:pt x="21146" y="14400"/>
                </a:lnTo>
                <a:lnTo>
                  <a:pt x="17774" y="21600"/>
                </a:lnTo>
                <a:lnTo>
                  <a:pt x="13494" y="14400"/>
                </a:lnTo>
                <a:lnTo>
                  <a:pt x="15407" y="14400"/>
                </a:lnTo>
                <a:arcTo wR="7931" hR="21600" stAng="-2635139" swAng="-2452000"/>
                <a:lnTo>
                  <a:pt x="9844" y="638"/>
                </a:lnTo>
                <a:arcTo wR="7931" hR="21600" stAng="-5712861" swAng="-5087139"/>
                <a:close/>
              </a:path>
              <a:path fill="darkenLess" w="21600" h="21600">
                <a:moveTo>
                  <a:pt x="0" y="21600"/>
                </a:moveTo>
                <a:arcTo wR="7931" hR="21600" stAng="10800000" swAng="5400000"/>
                <a:lnTo>
                  <a:pt x="7931" y="0"/>
                </a:lnTo>
                <a:arcTo wR="7931" hR="21600" stAng="-5400000" swAng="312861"/>
                <a:lnTo>
                  <a:pt x="9844" y="638"/>
                </a:lnTo>
                <a:arcTo wR="7931" hR="21600" stAng="-5712861" swAng="-5087139"/>
                <a:close/>
              </a:path>
            </a:pathLst>
          </a:custGeom>
          <a:solidFill>
            <a:srgbClr val="fac09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/>
          <p:cNvSpPr/>
          <p:nvPr/>
        </p:nvSpPr>
        <p:spPr>
          <a:xfrm rot="19071000">
            <a:off x="1945800" y="2182320"/>
            <a:ext cx="2536920" cy="604800"/>
          </a:xfrm>
          <a:custGeom>
            <a:avLst/>
            <a:gdLst>
              <a:gd name="textAreaLeft" fmla="*/ 491040 w 2536920"/>
              <a:gd name="textAreaRight" fmla="*/ 1855080 w 2536920"/>
              <a:gd name="textAreaTop" fmla="*/ 81000 h 604800"/>
              <a:gd name="textAreaBottom" fmla="*/ 523800 h 604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364" hR="21600" stAng="10800000" swAng="5400000"/>
                <a:lnTo>
                  <a:pt x="11613" y="0"/>
                </a:lnTo>
                <a:arcTo wR="8364" hR="21600" stAng="-5400000" swAng="2856038"/>
                <a:lnTo>
                  <a:pt x="21122" y="14400"/>
                </a:lnTo>
                <a:lnTo>
                  <a:pt x="18352" y="21600"/>
                </a:lnTo>
                <a:lnTo>
                  <a:pt x="14625" y="14400"/>
                </a:lnTo>
                <a:lnTo>
                  <a:pt x="16249" y="14400"/>
                </a:lnTo>
                <a:arcTo wR="8364" hR="21600" stAng="-2543962" swAng="-2592986"/>
                <a:lnTo>
                  <a:pt x="9988" y="411"/>
                </a:lnTo>
                <a:arcTo wR="8364" hR="21600" stAng="-5663052" swAng="-5136948"/>
                <a:close/>
              </a:path>
              <a:path fill="darkenLess" w="21600" h="21600">
                <a:moveTo>
                  <a:pt x="0" y="21600"/>
                </a:moveTo>
                <a:arcTo wR="8364" hR="21600" stAng="10800000" swAng="5400000"/>
                <a:lnTo>
                  <a:pt x="8364" y="0"/>
                </a:lnTo>
                <a:arcTo wR="8364" hR="21600" stAng="-5400000" swAng="263052"/>
                <a:lnTo>
                  <a:pt x="9988" y="411"/>
                </a:lnTo>
                <a:arcTo wR="8364" hR="21600" stAng="-5663052" swAng="-5136948"/>
                <a:close/>
              </a:path>
            </a:pathLst>
          </a:custGeom>
          <a:solidFill>
            <a:srgbClr val="fcd5b5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 rot="19071000">
            <a:off x="2398680" y="3228840"/>
            <a:ext cx="1913040" cy="522360"/>
          </a:xfrm>
          <a:custGeom>
            <a:avLst/>
            <a:gdLst>
              <a:gd name="textAreaLeft" fmla="*/ 354600 w 1913040"/>
              <a:gd name="textAreaRight" fmla="*/ 1393560 w 1913040"/>
              <a:gd name="textAreaTop" fmla="*/ 69840 h 522360"/>
              <a:gd name="textAreaBottom" fmla="*/ 452520 h 522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1" hR="21600" stAng="10800000" swAng="5400000"/>
                <a:lnTo>
                  <a:pt x="11730" y="0"/>
                </a:lnTo>
                <a:arcTo wR="8011" hR="21600" stAng="-5400000" swAng="3689215"/>
                <a:lnTo>
                  <a:pt x="21442" y="17334"/>
                </a:lnTo>
                <a:lnTo>
                  <a:pt x="17881" y="21600"/>
                </a:lnTo>
                <a:lnTo>
                  <a:pt x="14003" y="17334"/>
                </a:lnTo>
                <a:lnTo>
                  <a:pt x="15863" y="17334"/>
                </a:lnTo>
                <a:arcTo wR="8011" hR="21600" stAng="-1710785" swAng="-3385746"/>
                <a:lnTo>
                  <a:pt x="9870" y="590"/>
                </a:lnTo>
                <a:arcTo wR="8011" hR="21600" stAng="-5703469" swAng="-5096531"/>
                <a:close/>
              </a:path>
              <a:path fill="darkenLess" w="21600" h="21600">
                <a:moveTo>
                  <a:pt x="0" y="21600"/>
                </a:moveTo>
                <a:arcTo wR="8011" hR="21600" stAng="10800000" swAng="5400000"/>
                <a:lnTo>
                  <a:pt x="8011" y="0"/>
                </a:lnTo>
                <a:arcTo wR="8011" hR="21600" stAng="-5400000" swAng="303469"/>
                <a:lnTo>
                  <a:pt x="9870" y="590"/>
                </a:lnTo>
                <a:arcTo wR="8011" hR="21600" stAng="-5703469" swAng="-5096531"/>
                <a:close/>
              </a:path>
            </a:pathLst>
          </a:custGeom>
          <a:solidFill>
            <a:srgbClr val="fac09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6"/>
          <p:cNvSpPr/>
          <p:nvPr/>
        </p:nvSpPr>
        <p:spPr>
          <a:xfrm>
            <a:off x="2428920" y="928800"/>
            <a:ext cx="2390760" cy="500040"/>
          </a:xfrm>
          <a:prstGeom prst="flowChartTerminator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as tradiciones de las instituciones educativ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357120" y="2286000"/>
            <a:ext cx="1838520" cy="1257480"/>
          </a:xfrm>
          <a:prstGeom prst="smileyFace">
            <a:avLst>
              <a:gd name="adj" fmla="val -4652"/>
            </a:avLst>
          </a:prstGeom>
          <a:solidFill>
            <a:srgbClr val="d7e4bd"/>
          </a:solidFill>
          <a:ln w="63360">
            <a:solidFill>
              <a:srgbClr val="8064a2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IRECTIVOS DOC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9"/>
          <p:cNvSpPr/>
          <p:nvPr/>
        </p:nvSpPr>
        <p:spPr>
          <a:xfrm>
            <a:off x="6143760" y="2143080"/>
            <a:ext cx="928440" cy="1171800"/>
          </a:xfrm>
          <a:prstGeom prst="smileyFace">
            <a:avLst>
              <a:gd name="adj" fmla="val 9282"/>
            </a:avLst>
          </a:prstGeom>
          <a:solidFill>
            <a:srgbClr val="d7e4bd"/>
          </a:solidFill>
          <a:ln w="63360">
            <a:solidFill>
              <a:srgbClr val="f79646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1"/>
          <p:cNvSpPr/>
          <p:nvPr/>
        </p:nvSpPr>
        <p:spPr>
          <a:xfrm>
            <a:off x="500040" y="4357800"/>
            <a:ext cx="3143160" cy="600120"/>
          </a:xfrm>
          <a:prstGeom prst="flowChartManualInput">
            <a:avLst/>
          </a:prstGeom>
          <a:solidFill>
            <a:srgbClr val="eeece1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) Cinco (5) semanas de desarrollo 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4"/>
          <p:cNvSpPr/>
          <p:nvPr/>
        </p:nvSpPr>
        <p:spPr>
          <a:xfrm>
            <a:off x="4786200" y="5000760"/>
            <a:ext cx="3429000" cy="500040"/>
          </a:xfrm>
          <a:prstGeom prst="flowChartPunchedTape">
            <a:avLst/>
          </a:prstGeom>
          <a:solidFill>
            <a:srgbClr val="fcd5b5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)  Doce (12) semanas de receso estudi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7"/>
          <p:cNvSpPr/>
          <p:nvPr/>
        </p:nvSpPr>
        <p:spPr>
          <a:xfrm>
            <a:off x="357120" y="500040"/>
            <a:ext cx="2127240" cy="1152720"/>
          </a:xfrm>
          <a:prstGeom prst="ellipse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ENDARIO ACADÈ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ìculo 14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2389320" y="430200"/>
            <a:ext cx="2390760" cy="441360"/>
          </a:xfrm>
          <a:prstGeom prst="flowChartTerminator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endiendo las condiciones econòmicas region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0"/>
          <p:cNvSpPr/>
          <p:nvPr/>
        </p:nvSpPr>
        <p:spPr>
          <a:xfrm>
            <a:off x="1928880" y="2428920"/>
            <a:ext cx="1939680" cy="1071360"/>
          </a:xfrm>
          <a:prstGeom prst="smileyFace">
            <a:avLst>
              <a:gd name="adj" fmla="val 9282"/>
            </a:avLst>
          </a:prstGeom>
          <a:solidFill>
            <a:srgbClr val="fcd5b5"/>
          </a:solidFill>
          <a:ln w="63360">
            <a:solidFill>
              <a:srgbClr val="8064a2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5143680" y="142920"/>
            <a:ext cx="3857400" cy="1500120"/>
          </a:xfrm>
          <a:prstGeom prst="cloudCallout">
            <a:avLst>
              <a:gd name="adj1" fmla="val -53685"/>
              <a:gd name="adj2" fmla="val 54578"/>
            </a:avLst>
          </a:prstGeom>
          <a:solidFill>
            <a:srgbClr val="fdeada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497a"/>
                </a:solidFill>
                <a:latin typeface="Times New Roman"/>
              </a:rPr>
              <a:t>Las ET lo expediràn  cada año y   por  una  sola   ve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497a"/>
                </a:solidFill>
                <a:latin typeface="Times New Roman"/>
              </a:rPr>
              <a:t>Calendario A:  antes  1º de Noviemb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497a"/>
                </a:solidFill>
                <a:latin typeface="Times New Roman"/>
              </a:rPr>
              <a:t>Calendario B:  antes  1º de Jul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2"/>
          <p:cNvSpPr/>
          <p:nvPr/>
        </p:nvSpPr>
        <p:spPr>
          <a:xfrm>
            <a:off x="5214960" y="2571840"/>
            <a:ext cx="1643040" cy="117144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w="63360">
            <a:solidFill>
              <a:srgbClr val="f79646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TUDI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4"/>
          <p:cNvSpPr/>
          <p:nvPr/>
        </p:nvSpPr>
        <p:spPr>
          <a:xfrm>
            <a:off x="428760" y="3500280"/>
            <a:ext cx="3171600" cy="714600"/>
          </a:xfrm>
          <a:prstGeom prst="flowChartManualInput">
            <a:avLst/>
          </a:prstGeom>
          <a:solidFill>
            <a:srgbClr val="ddd9c3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a) Cuarenta (40) semanas de trabajo acadèmico con  estudiantes, distribuidos en 2 periodos semestr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7"/>
          <p:cNvSpPr/>
          <p:nvPr/>
        </p:nvSpPr>
        <p:spPr>
          <a:xfrm>
            <a:off x="4857840" y="4000680"/>
            <a:ext cx="3500280" cy="857160"/>
          </a:xfrm>
          <a:prstGeom prst="flowChartPunchedTape">
            <a:avLst/>
          </a:prstGeom>
          <a:solidFill>
            <a:srgbClr val="fcd5b5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a) Cuarenta (40) semanas de trabajo académico, distribuidos en 2 periodos semestr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>
            <a:off x="2428920" y="1500120"/>
            <a:ext cx="2390760" cy="500040"/>
          </a:xfrm>
          <a:prstGeom prst="flowChartTerminator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iterios  establecidos en este Decreto 1850 de 2002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571680" y="5000760"/>
            <a:ext cx="2819160" cy="600120"/>
          </a:xfrm>
          <a:prstGeom prst="flowChartManualInput">
            <a:avLst/>
          </a:prstGeom>
          <a:solidFill>
            <a:srgbClr val="ddd9c3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c) Siete (7) semanas de vacacione</a:t>
            </a: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9"/>
          <p:cNvSpPr/>
          <p:nvPr/>
        </p:nvSpPr>
        <p:spPr>
          <a:xfrm>
            <a:off x="6500880" y="2571840"/>
            <a:ext cx="1143000" cy="1171440"/>
          </a:xfrm>
          <a:prstGeom prst="smileyFace">
            <a:avLst>
              <a:gd name="adj" fmla="val 9282"/>
            </a:avLst>
          </a:prstGeom>
          <a:solidFill>
            <a:srgbClr val="c4bd97"/>
          </a:solidFill>
          <a:ln w="63360">
            <a:solidFill>
              <a:srgbClr val="f79646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7286760" y="2143080"/>
            <a:ext cx="642960" cy="1171800"/>
          </a:xfrm>
          <a:prstGeom prst="smileyFace">
            <a:avLst>
              <a:gd name="adj" fmla="val 9282"/>
            </a:avLst>
          </a:prstGeom>
          <a:solidFill>
            <a:srgbClr val="fac090"/>
          </a:solidFill>
          <a:ln w="63360">
            <a:solidFill>
              <a:srgbClr val="f79646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4"/>
          <p:cNvSpPr/>
          <p:nvPr/>
        </p:nvSpPr>
        <p:spPr>
          <a:xfrm>
            <a:off x="409680" y="1857240"/>
            <a:ext cx="2047680" cy="1357560"/>
          </a:xfrm>
          <a:prstGeom prst="flowChartTerminator">
            <a:avLst/>
          </a:prstGeom>
          <a:solidFill>
            <a:srgbClr val="e6b9b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Arial"/>
              </a:rPr>
              <a:t>MODIFICACIÒN AL CALENDARIO ESCOLAR O  DE LA JORNADA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Arial"/>
              </a:rPr>
              <a:t>Artículo 15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2"/>
          <p:cNvSpPr/>
          <p:nvPr/>
        </p:nvSpPr>
        <p:spPr>
          <a:xfrm rot="19318800">
            <a:off x="2206440" y="1411200"/>
            <a:ext cx="1768320" cy="581040"/>
          </a:xfrm>
          <a:custGeom>
            <a:avLst/>
            <a:gdLst>
              <a:gd name="textAreaLeft" fmla="*/ 258840 w 1768320"/>
              <a:gd name="textAreaRight" fmla="*/ 1509480 w 1768320"/>
              <a:gd name="textAreaTop" fmla="*/ 84960 h 581040"/>
              <a:gd name="textAreaBottom" fmla="*/ 496080 h 5810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28496" dir="3825519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3"/>
          <p:cNvSpPr/>
          <p:nvPr/>
        </p:nvSpPr>
        <p:spPr>
          <a:xfrm rot="20985600">
            <a:off x="2373480" y="1674360"/>
            <a:ext cx="1884240" cy="895320"/>
          </a:xfrm>
          <a:custGeom>
            <a:avLst/>
            <a:gdLst>
              <a:gd name="textAreaLeft" fmla="*/ 275760 w 1884240"/>
              <a:gd name="textAreaRight" fmla="*/ 1608480 w 1884240"/>
              <a:gd name="textAreaTop" fmla="*/ 131040 h 895320"/>
              <a:gd name="textAreaBottom" fmla="*/ 764280 h 895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8257" y="5399"/>
                  <a:pt x="6059" y="7173"/>
                  <a:pt x="5522" y="9657"/>
                </a:cubicBezTo>
                <a:lnTo>
                  <a:pt x="244" y="8515"/>
                </a:lnTo>
                <a:cubicBezTo>
                  <a:pt x="1319" y="3546"/>
                  <a:pt x="5715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28496" dir="3825519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5"/>
          <p:cNvSpPr/>
          <p:nvPr/>
        </p:nvSpPr>
        <p:spPr>
          <a:xfrm rot="17547000">
            <a:off x="3346920" y="5053680"/>
            <a:ext cx="2416320" cy="665280"/>
          </a:xfrm>
          <a:custGeom>
            <a:avLst/>
            <a:gdLst>
              <a:gd name="textAreaLeft" fmla="*/ 388800 w 2416320"/>
              <a:gd name="textAreaRight" fmla="*/ 1740600 w 2416320"/>
              <a:gd name="textAreaTop" fmla="*/ 88920 h 665280"/>
              <a:gd name="textAreaBottom" fmla="*/ 576360 h 66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956" hR="21600" stAng="10800000" swAng="-5400000"/>
                <a:lnTo>
                  <a:pt x="12082" y="21600"/>
                </a:lnTo>
                <a:arcTo wR="6956" hR="21600" stAng="5400000" swAng="-2853649"/>
                <a:lnTo>
                  <a:pt x="21317" y="6101"/>
                </a:lnTo>
                <a:lnTo>
                  <a:pt x="16474" y="0"/>
                </a:lnTo>
                <a:lnTo>
                  <a:pt x="11065" y="6101"/>
                </a:lnTo>
                <a:lnTo>
                  <a:pt x="13628" y="6101"/>
                </a:lnTo>
                <a:arcTo wR="6956" hR="21600" stAng="2546351" swAng="2417219"/>
                <a:lnTo>
                  <a:pt x="9519" y="20080"/>
                </a:lnTo>
                <a:arcTo wR="6956" hR="21600" stAng="5836430" swAng="4963570"/>
                <a:close/>
              </a:path>
              <a:path fill="darkenLess" w="21600" h="21600">
                <a:moveTo>
                  <a:pt x="0" y="0"/>
                </a:moveTo>
                <a:arcTo wR="6956" hR="21600" stAng="10800000" swAng="-5400000"/>
                <a:lnTo>
                  <a:pt x="12082" y="21600"/>
                </a:lnTo>
                <a:arcTo wR="6956" hR="21600" stAng="5400000" swAng="436430"/>
                <a:lnTo>
                  <a:pt x="9519" y="20080"/>
                </a:lnTo>
                <a:arcTo wR="6956" hR="21600" stAng="5836430" swAng="4963570"/>
                <a:close/>
              </a:path>
            </a:pathLst>
          </a:custGeom>
          <a:solidFill>
            <a:srgbClr val="c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3571920" y="785880"/>
            <a:ext cx="5357880" cy="500040"/>
          </a:xfrm>
          <a:prstGeom prst="flowChartPreparation">
            <a:avLst/>
          </a:prstGeom>
          <a:solidFill>
            <a:srgbClr val="fdeada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LA COMPETENCIA ES DEL GOBIERNO NACI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6"/>
          <p:cNvSpPr/>
          <p:nvPr/>
        </p:nvSpPr>
        <p:spPr>
          <a:xfrm rot="1006800">
            <a:off x="592200" y="3828960"/>
            <a:ext cx="4295880" cy="285840"/>
          </a:xfrm>
          <a:prstGeom prst="flowChartPreparation">
            <a:avLst/>
          </a:prstGeom>
          <a:solidFill>
            <a:srgbClr val="fcd5b5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LAS   AUTORIDADES  TERRITORI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5"/>
          <p:cNvSpPr/>
          <p:nvPr/>
        </p:nvSpPr>
        <p:spPr>
          <a:xfrm rot="3430800">
            <a:off x="-410400" y="3690000"/>
            <a:ext cx="2325600" cy="631800"/>
          </a:xfrm>
          <a:custGeom>
            <a:avLst/>
            <a:gdLst>
              <a:gd name="textAreaLeft" fmla="*/ 376920 w 2325600"/>
              <a:gd name="textAreaRight" fmla="*/ 1676160 w 2325600"/>
              <a:gd name="textAreaTop" fmla="*/ 84600 h 631800"/>
              <a:gd name="textAreaBottom" fmla="*/ 54720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006" hR="21600" stAng="10800000" swAng="-5400000"/>
                <a:lnTo>
                  <a:pt x="12065" y="21600"/>
                </a:lnTo>
                <a:arcTo wR="7006" hR="21600" stAng="5400000" swAng="-2552007"/>
                <a:lnTo>
                  <a:pt x="21199" y="7200"/>
                </a:lnTo>
                <a:lnTo>
                  <a:pt x="16542" y="0"/>
                </a:lnTo>
                <a:lnTo>
                  <a:pt x="11082" y="7200"/>
                </a:lnTo>
                <a:lnTo>
                  <a:pt x="13611" y="7200"/>
                </a:lnTo>
                <a:arcTo wR="7006" hR="21600" stAng="2847993" swAng="2122553"/>
                <a:lnTo>
                  <a:pt x="9536" y="20143"/>
                </a:lnTo>
                <a:arcTo wR="7006" hR="21600" stAng="5829454" swAng="4970546"/>
                <a:close/>
              </a:path>
              <a:path fill="darkenLess" w="21600" h="21600">
                <a:moveTo>
                  <a:pt x="0" y="0"/>
                </a:moveTo>
                <a:arcTo wR="7006" hR="21600" stAng="10800000" swAng="-5400000"/>
                <a:lnTo>
                  <a:pt x="12065" y="21600"/>
                </a:lnTo>
                <a:arcTo wR="7006" hR="21600" stAng="5400000" swAng="429454"/>
                <a:lnTo>
                  <a:pt x="9536" y="20143"/>
                </a:lnTo>
                <a:arcTo wR="7006" hR="21600" stAng="5829454" swAng="4970546"/>
                <a:close/>
              </a:path>
            </a:pathLst>
          </a:custGeom>
          <a:solidFill>
            <a:srgbClr val="c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4286160" y="1643040"/>
            <a:ext cx="4429080" cy="785880"/>
          </a:xfrm>
          <a:prstGeom prst="flowChartPreparation">
            <a:avLst/>
          </a:prstGeom>
          <a:solidFill>
            <a:srgbClr val="dbeef4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LOS REAJUSTES DEBERÀN SER SOLICITADOS POR LA AUTORIDAD COMPETENTE   EN LA ENTIDAD TERRITORIAL CERTIFICADA MEDIANTE PETICIÒN DEBIDAMENTE MOTIVA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4000680" y="2714760"/>
            <a:ext cx="5000400" cy="1143000"/>
          </a:xfrm>
          <a:prstGeom prst="flowChartPreparation">
            <a:avLst/>
          </a:prstGeom>
          <a:solidFill>
            <a:srgbClr val="c3d69b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SALVO CUANDO SOBREVENGAN HECHOS QUE ALTEREN EL ORDEN PÙBLICO LA  AUTORIDAD COMPETENTE EN LA ENTIDAD  TERRITORIAL PODRÀ HACER LOS REAJUSTES DEL CALENADRIO ACADÈMICO QUE SEAN NECESA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 rot="1333200">
            <a:off x="401400" y="4049640"/>
            <a:ext cx="4092480" cy="285840"/>
          </a:xfrm>
          <a:prstGeom prst="flowChartPreparation">
            <a:avLst/>
          </a:prstGeom>
          <a:solidFill>
            <a:srgbClr val="b9cde5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LOS   CONSEJOS  DIRECTIV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6"/>
          <p:cNvSpPr/>
          <p:nvPr/>
        </p:nvSpPr>
        <p:spPr>
          <a:xfrm rot="2455800">
            <a:off x="-74520" y="4659120"/>
            <a:ext cx="4295520" cy="285480"/>
          </a:xfrm>
          <a:prstGeom prst="flowChartPreparation">
            <a:avLst/>
          </a:prstGeom>
          <a:solidFill>
            <a:srgbClr val="fcd5b5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LOS RECTORES  /  DIRECTORES RUR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/>
          <p:cNvSpPr/>
          <p:nvPr/>
        </p:nvSpPr>
        <p:spPr>
          <a:xfrm rot="20921400">
            <a:off x="4849920" y="4410000"/>
            <a:ext cx="4255920" cy="804960"/>
          </a:xfrm>
          <a:prstGeom prst="flowChartPreparation">
            <a:avLst/>
          </a:prstGeom>
          <a:solidFill>
            <a:srgbClr val="d99694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AUTORIZAR VARIACIONES EN LA DISTRIBUCIÒN DE LOS DÌAS FIJADOS PARA  EL CUMPLIMIENTO DEL CALENDARIO ESCOLAR Y LA JORNADA ESCOL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6"/>
          <p:cNvSpPr/>
          <p:nvPr/>
        </p:nvSpPr>
        <p:spPr>
          <a:xfrm rot="623400">
            <a:off x="4790880" y="5797440"/>
            <a:ext cx="4092480" cy="647640"/>
          </a:xfrm>
          <a:prstGeom prst="flowChartPreparation">
            <a:avLst/>
          </a:prstGeom>
          <a:solidFill>
            <a:srgbClr val="fac090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NI PARA AUTORIZAR LA REPOSICIÒN DE CLASES POR DÌAS NO TRABAJADOS POR CESE DE ACTIVIDADES ACADÈMICA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6"/>
          <p:cNvSpPr/>
          <p:nvPr/>
        </p:nvSpPr>
        <p:spPr>
          <a:xfrm rot="2455800">
            <a:off x="77760" y="4811760"/>
            <a:ext cx="4295880" cy="285840"/>
          </a:xfrm>
          <a:prstGeom prst="flowChartPreparation">
            <a:avLst/>
          </a:prstGeom>
          <a:solidFill>
            <a:srgbClr val="fcd5b5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NO  SON COMPET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6"/>
          <p:cNvSpPr/>
          <p:nvPr/>
        </p:nvSpPr>
        <p:spPr>
          <a:xfrm rot="1840200">
            <a:off x="212400" y="4331880"/>
            <a:ext cx="4295880" cy="285840"/>
          </a:xfrm>
          <a:prstGeom prst="flowChartPreparation">
            <a:avLst/>
          </a:prstGeom>
          <a:solidFill>
            <a:srgbClr val="d7e4bd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900" spc="-1" strike="noStrike">
                <a:solidFill>
                  <a:srgbClr val="000000"/>
                </a:solidFill>
                <a:latin typeface="Arial"/>
              </a:rPr>
              <a:t>LOS RECTORES  /  DIRECTORES RUR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2"/>
          <p:cNvSpPr/>
          <p:nvPr/>
        </p:nvSpPr>
        <p:spPr>
          <a:xfrm rot="1116600">
            <a:off x="2328480" y="2289240"/>
            <a:ext cx="1908360" cy="581040"/>
          </a:xfrm>
          <a:custGeom>
            <a:avLst/>
            <a:gdLst>
              <a:gd name="textAreaLeft" fmla="*/ 279360 w 1908360"/>
              <a:gd name="textAreaRight" fmla="*/ 1629000 w 1908360"/>
              <a:gd name="textAreaTop" fmla="*/ 84960 h 581040"/>
              <a:gd name="textAreaBottom" fmla="*/ 496080 h 5810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28496" dir="3825519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AutoShape 4"/>
          <p:cNvSpPr/>
          <p:nvPr/>
        </p:nvSpPr>
        <p:spPr>
          <a:xfrm>
            <a:off x="428760" y="1714680"/>
            <a:ext cx="2047680" cy="1357200"/>
          </a:xfrm>
          <a:prstGeom prst="flowChartTerminator">
            <a:avLst/>
          </a:pr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IDADES 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OYO PEDAGÒG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tìculo 16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5"/>
          <p:cNvSpPr/>
          <p:nvPr/>
        </p:nvSpPr>
        <p:spPr>
          <a:xfrm rot="10545000">
            <a:off x="1879200" y="802800"/>
            <a:ext cx="2416320" cy="682920"/>
          </a:xfrm>
          <a:custGeom>
            <a:avLst/>
            <a:gdLst>
              <a:gd name="textAreaLeft" fmla="*/ 383400 w 2416320"/>
              <a:gd name="textAreaRight" fmla="*/ 1738800 w 2416320"/>
              <a:gd name="textAreaTop" fmla="*/ 91440 h 682920"/>
              <a:gd name="textAreaBottom" fmla="*/ 591480 h 68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855" hR="21600" stAng="10800000" swAng="-5400000"/>
                <a:lnTo>
                  <a:pt x="12116" y="21600"/>
                </a:lnTo>
                <a:arcTo wR="6855" hR="21600" stAng="5400000" swAng="-2828591"/>
                <a:lnTo>
                  <a:pt x="21321" y="6101"/>
                </a:lnTo>
                <a:lnTo>
                  <a:pt x="16340" y="0"/>
                </a:lnTo>
                <a:lnTo>
                  <a:pt x="10800" y="6101"/>
                </a:lnTo>
                <a:lnTo>
                  <a:pt x="13430" y="6101"/>
                </a:lnTo>
                <a:arcTo wR="6855" hR="21600" stAng="2571409" swAng="2377822"/>
                <a:lnTo>
                  <a:pt x="9485" y="19946"/>
                </a:lnTo>
                <a:arcTo wR="6855" hR="21600" stAng="5850770" swAng="4949230"/>
                <a:close/>
              </a:path>
              <a:path fill="darkenLess" w="21600" h="21600">
                <a:moveTo>
                  <a:pt x="0" y="0"/>
                </a:moveTo>
                <a:arcTo wR="6855" hR="21600" stAng="10800000" swAng="-5400000"/>
                <a:lnTo>
                  <a:pt x="12116" y="21600"/>
                </a:lnTo>
                <a:arcTo wR="6855" hR="21600" stAng="5400000" swAng="450770"/>
                <a:lnTo>
                  <a:pt x="9485" y="19946"/>
                </a:lnTo>
                <a:arcTo wR="6855" hR="21600" stAng="5850770" swAng="4949230"/>
                <a:close/>
              </a:path>
            </a:pathLst>
          </a:custGeom>
          <a:solidFill>
            <a:srgbClr val="c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6"/>
          <p:cNvSpPr/>
          <p:nvPr/>
        </p:nvSpPr>
        <p:spPr>
          <a:xfrm>
            <a:off x="3929040" y="714240"/>
            <a:ext cx="4929120" cy="1643040"/>
          </a:xfrm>
          <a:prstGeom prst="flowChartPreparation">
            <a:avLst/>
          </a:prstGeom>
          <a:solidFill>
            <a:srgbClr val="fdeada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Arial"/>
              </a:rPr>
              <a:t>Las actividades grupales e individuales que organice la institución educativa para estudiantes que requieren apoyo especial para superar las insuficiencias en la consecución de los logros educativos es un componente  esencial de las </a:t>
            </a: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actividades pedagógicas ordinar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5"/>
          <p:cNvSpPr/>
          <p:nvPr/>
        </p:nvSpPr>
        <p:spPr>
          <a:xfrm>
            <a:off x="2238480" y="3178080"/>
            <a:ext cx="2325600" cy="631800"/>
          </a:xfrm>
          <a:custGeom>
            <a:avLst/>
            <a:gdLst>
              <a:gd name="textAreaLeft" fmla="*/ 376920 w 2325600"/>
              <a:gd name="textAreaRight" fmla="*/ 1676160 w 2325600"/>
              <a:gd name="textAreaTop" fmla="*/ 84600 h 631800"/>
              <a:gd name="textAreaBottom" fmla="*/ 54720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006" hR="21600" stAng="10800000" swAng="-5400000"/>
                <a:lnTo>
                  <a:pt x="12065" y="21600"/>
                </a:lnTo>
                <a:arcTo wR="7006" hR="21600" stAng="5400000" swAng="-2552007"/>
                <a:lnTo>
                  <a:pt x="21199" y="7200"/>
                </a:lnTo>
                <a:lnTo>
                  <a:pt x="16542" y="0"/>
                </a:lnTo>
                <a:lnTo>
                  <a:pt x="11082" y="7200"/>
                </a:lnTo>
                <a:lnTo>
                  <a:pt x="13611" y="7200"/>
                </a:lnTo>
                <a:arcTo wR="7006" hR="21600" stAng="2847993" swAng="2122553"/>
                <a:lnTo>
                  <a:pt x="9536" y="20143"/>
                </a:lnTo>
                <a:arcTo wR="7006" hR="21600" stAng="5829454" swAng="4970546"/>
                <a:close/>
              </a:path>
              <a:path fill="darkenLess" w="21600" h="21600">
                <a:moveTo>
                  <a:pt x="0" y="0"/>
                </a:moveTo>
                <a:arcTo wR="7006" hR="21600" stAng="10800000" swAng="-5400000"/>
                <a:lnTo>
                  <a:pt x="12065" y="21600"/>
                </a:lnTo>
                <a:arcTo wR="7006" hR="21600" stAng="5400000" swAng="429454"/>
                <a:lnTo>
                  <a:pt x="9536" y="20143"/>
                </a:lnTo>
                <a:arcTo wR="7006" hR="21600" stAng="5829454" swAng="4970546"/>
                <a:close/>
              </a:path>
            </a:pathLst>
          </a:custGeom>
          <a:solidFill>
            <a:srgbClr val="c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143240" y="2571840"/>
            <a:ext cx="4714920" cy="1143000"/>
          </a:xfrm>
          <a:prstGeom prst="flowChartPreparation">
            <a:avLst/>
          </a:prstGeom>
          <a:solidFill>
            <a:srgbClr val="ebf1de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"/>
              </a:rPr>
              <a:t>No se podrán programar semanas específicas</a:t>
            </a:r>
            <a:r>
              <a:rPr b="1" lang="es-CO" sz="1100" spc="-1" strike="noStrike">
                <a:solidFill>
                  <a:srgbClr val="000000"/>
                </a:solidFill>
                <a:latin typeface="Arial"/>
              </a:rPr>
              <a:t> que afecten la permanencia de todos los estudiantes  en la instituci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AutoShape 2"/>
          <p:cNvSpPr/>
          <p:nvPr/>
        </p:nvSpPr>
        <p:spPr>
          <a:xfrm>
            <a:off x="785880" y="642960"/>
            <a:ext cx="2666880" cy="91440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RADU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500040" y="2708280"/>
            <a:ext cx="8072640" cy="2665440"/>
          </a:xfrm>
          <a:custGeom>
            <a:avLst/>
            <a:gdLst>
              <a:gd name="textAreaLeft" fmla="*/ 2018160 w 8072640"/>
              <a:gd name="textAreaRight" fmla="*/ 6054480 w 8072640"/>
              <a:gd name="textAreaTop" fmla="*/ 262080 h 2665440"/>
              <a:gd name="textAreaBottom" fmla="*/ 266580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531" stAng="16200000" swAng="5400000"/>
                <a:lnTo>
                  <a:pt x="8100" y="2125"/>
                </a:lnTo>
                <a:lnTo>
                  <a:pt x="13500" y="2125"/>
                </a:lnTo>
                <a:lnTo>
                  <a:pt x="13500" y="531"/>
                </a:lnTo>
                <a:arcTo wR="675" hR="531" stAng="10800000" swAng="5400000"/>
                <a:lnTo>
                  <a:pt x="21600" y="0"/>
                </a:lnTo>
                <a:lnTo>
                  <a:pt x="18900" y="9738"/>
                </a:lnTo>
                <a:lnTo>
                  <a:pt x="21600" y="19475"/>
                </a:lnTo>
                <a:lnTo>
                  <a:pt x="16200" y="19475"/>
                </a:lnTo>
                <a:lnTo>
                  <a:pt x="16200" y="21069"/>
                </a:lnTo>
                <a:arcTo wR="675" hR="531" stAng="0" swAng="5400000"/>
                <a:lnTo>
                  <a:pt x="6075" y="21600"/>
                </a:lnTo>
                <a:arcTo wR="675" hR="531" stAng="5400000" swAng="5400000"/>
                <a:lnTo>
                  <a:pt x="5400" y="19475"/>
                </a:lnTo>
                <a:lnTo>
                  <a:pt x="0" y="19475"/>
                </a:lnTo>
                <a:lnTo>
                  <a:pt x="2700" y="9738"/>
                </a:lnTo>
                <a:close/>
              </a:path>
              <a:path fill="none" w="21600" h="21600">
                <a:moveTo>
                  <a:pt x="8100" y="531"/>
                </a:moveTo>
                <a:arcTo wR="675" hR="531" stAng="0" swAng="5400000"/>
                <a:lnTo>
                  <a:pt x="6075" y="1063"/>
                </a:lnTo>
                <a:arcTo wR="675" hR="531" stAng="16200000" swAng="-5400000"/>
                <a:arcTo wR="675" hR="531" stAng="10800000" swAng="-5400000"/>
                <a:lnTo>
                  <a:pt x="8100" y="2125"/>
                </a:lnTo>
              </a:path>
              <a:path fill="none" w="21600" h="21600">
                <a:moveTo>
                  <a:pt x="13500" y="531"/>
                </a:moveTo>
                <a:arcTo wR="675" hR="531" stAng="10800000" swAng="-5400000"/>
                <a:lnTo>
                  <a:pt x="15525" y="1063"/>
                </a:lnTo>
                <a:arcTo wR="675" hR="531" stAng="16200000" swAng="5400000"/>
                <a:arcTo wR="675" hR="531" stAng="0" swAng="5400000"/>
                <a:lnTo>
                  <a:pt x="13500" y="2125"/>
                </a:lnTo>
              </a:path>
              <a:path fill="none" w="21600" h="21600">
                <a:moveTo>
                  <a:pt x="5400" y="1594"/>
                </a:moveTo>
                <a:lnTo>
                  <a:pt x="5400" y="19475"/>
                </a:lnTo>
              </a:path>
              <a:path fill="none" w="21600" h="21600">
                <a:moveTo>
                  <a:pt x="16200" y="1594"/>
                </a:moveTo>
                <a:lnTo>
                  <a:pt x="16200" y="19475"/>
                </a:lnTo>
              </a:path>
            </a:pathLst>
          </a:cu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07932" dir="189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Los estudiantes que culminen la Educación Media obtendrán el titulo de Bachiller Académico o Técnico, cuando hayan cumplido con todos los requisitos de promoción adoptados por el  E. E. en su P.E.I, de acuerdo con la Ley y las normas reglamenta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4"/>
          <p:cNvSpPr/>
          <p:nvPr/>
        </p:nvSpPr>
        <p:spPr>
          <a:xfrm>
            <a:off x="285840" y="2662200"/>
            <a:ext cx="3500280" cy="1123920"/>
          </a:xfrm>
          <a:prstGeom prst="ellipse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JORNADA  ESC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Artículo 1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3929040" y="1143000"/>
            <a:ext cx="3743280" cy="135720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s el tiempo diario que dedica el EE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 SUS   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n la prestación directa del servicio público educ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 rot="19071000">
            <a:off x="1728720" y="1095480"/>
            <a:ext cx="2508480" cy="795240"/>
          </a:xfrm>
          <a:custGeom>
            <a:avLst/>
            <a:gdLst>
              <a:gd name="textAreaLeft" fmla="*/ 438840 w 2508480"/>
              <a:gd name="textAreaRight" fmla="*/ 1818720 w 250848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4143240" y="3500280"/>
            <a:ext cx="3571920" cy="135756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NORMAS VIGENTES SOB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EL  CALENDARIO ACADÈ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Y CON EL PLAN DE ESTU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000680" y="5214960"/>
            <a:ext cx="3571560" cy="1357200"/>
          </a:xfrm>
          <a:prstGeom prst="roundRect">
            <a:avLst>
              <a:gd name="adj" fmla="val 16667"/>
            </a:avLst>
          </a:prstGeom>
          <a:solidFill>
            <a:srgbClr val="c3d69b"/>
          </a:soli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30 HOR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SEMA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 rot="5400000">
            <a:off x="6858720" y="2642040"/>
            <a:ext cx="2508120" cy="795600"/>
          </a:xfrm>
          <a:custGeom>
            <a:avLst/>
            <a:gdLst>
              <a:gd name="textAreaLeft" fmla="*/ 438840 w 2508120"/>
              <a:gd name="textAreaRight" fmla="*/ 1818360 w 2508120"/>
              <a:gd name="textAreaTop" fmla="*/ 106560 h 795600"/>
              <a:gd name="textAreaBottom" fmla="*/ 689040 h 795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 rot="6215400">
            <a:off x="6999480" y="4986720"/>
            <a:ext cx="2508120" cy="795240"/>
          </a:xfrm>
          <a:custGeom>
            <a:avLst/>
            <a:gdLst>
              <a:gd name="textAreaLeft" fmla="*/ 457560 w 2508120"/>
              <a:gd name="textAreaRight" fmla="*/ 1724400 w 250812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84" hR="21600" stAng="10800000" swAng="5400000"/>
                <a:lnTo>
                  <a:pt x="10910" y="0"/>
                </a:lnTo>
                <a:arcTo wR="7884" hR="21600" stAng="-5400000" swAng="2754650"/>
                <a:lnTo>
                  <a:pt x="21149" y="14400"/>
                </a:lnTo>
                <a:lnTo>
                  <a:pt x="17280" y="21600"/>
                </a:lnTo>
                <a:lnTo>
                  <a:pt x="12509" y="14400"/>
                </a:lnTo>
                <a:lnTo>
                  <a:pt x="15316" y="14400"/>
                </a:lnTo>
                <a:arcTo wR="7884" hR="21600" stAng="-2645350" swAng="-2509703"/>
                <a:lnTo>
                  <a:pt x="9397" y="402"/>
                </a:lnTo>
                <a:arcTo wR="7884" hR="21600" stAng="-5644947" swAng="-5155053"/>
                <a:close/>
              </a:path>
              <a:path fill="darkenLess" w="21600" h="21600">
                <a:moveTo>
                  <a:pt x="0" y="21600"/>
                </a:moveTo>
                <a:arcTo wR="7884" hR="21600" stAng="10800000" swAng="5400000"/>
                <a:lnTo>
                  <a:pt x="7884" y="0"/>
                </a:lnTo>
                <a:arcTo wR="7884" hR="21600" stAng="-5400000" swAng="244947"/>
                <a:lnTo>
                  <a:pt x="9397" y="402"/>
                </a:lnTo>
                <a:arcTo wR="7884" hR="21600" stAng="-5644947" swAng="-5155053"/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4"/>
          <p:cNvSpPr/>
          <p:nvPr/>
        </p:nvSpPr>
        <p:spPr>
          <a:xfrm>
            <a:off x="1214280" y="2708280"/>
            <a:ext cx="7572600" cy="2665440"/>
          </a:xfrm>
          <a:custGeom>
            <a:avLst/>
            <a:gdLst>
              <a:gd name="textAreaLeft" fmla="*/ 1893240 w 7572600"/>
              <a:gd name="textAreaRight" fmla="*/ 5679720 w 7572600"/>
              <a:gd name="textAreaTop" fmla="*/ 262080 h 2665440"/>
              <a:gd name="textAreaBottom" fmla="*/ 266580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531" stAng="16200000" swAng="5400000"/>
                <a:lnTo>
                  <a:pt x="8100" y="2125"/>
                </a:lnTo>
                <a:lnTo>
                  <a:pt x="13500" y="2125"/>
                </a:lnTo>
                <a:lnTo>
                  <a:pt x="13500" y="531"/>
                </a:lnTo>
                <a:arcTo wR="675" hR="531" stAng="10800000" swAng="5400000"/>
                <a:lnTo>
                  <a:pt x="21600" y="0"/>
                </a:lnTo>
                <a:lnTo>
                  <a:pt x="18900" y="9738"/>
                </a:lnTo>
                <a:lnTo>
                  <a:pt x="21600" y="19475"/>
                </a:lnTo>
                <a:lnTo>
                  <a:pt x="16200" y="19475"/>
                </a:lnTo>
                <a:lnTo>
                  <a:pt x="16200" y="21069"/>
                </a:lnTo>
                <a:arcTo wR="675" hR="531" stAng="0" swAng="5400000"/>
                <a:lnTo>
                  <a:pt x="6075" y="21600"/>
                </a:lnTo>
                <a:arcTo wR="675" hR="531" stAng="5400000" swAng="5400000"/>
                <a:lnTo>
                  <a:pt x="5400" y="19475"/>
                </a:lnTo>
                <a:lnTo>
                  <a:pt x="0" y="19475"/>
                </a:lnTo>
                <a:lnTo>
                  <a:pt x="2700" y="9738"/>
                </a:lnTo>
                <a:close/>
              </a:path>
              <a:path fill="none" w="21600" h="21600">
                <a:moveTo>
                  <a:pt x="8100" y="531"/>
                </a:moveTo>
                <a:arcTo wR="675" hR="531" stAng="0" swAng="5400000"/>
                <a:lnTo>
                  <a:pt x="6075" y="1063"/>
                </a:lnTo>
                <a:arcTo wR="675" hR="531" stAng="16200000" swAng="-5400000"/>
                <a:arcTo wR="675" hR="531" stAng="10800000" swAng="-5400000"/>
                <a:lnTo>
                  <a:pt x="8100" y="2125"/>
                </a:lnTo>
              </a:path>
              <a:path fill="none" w="21600" h="21600">
                <a:moveTo>
                  <a:pt x="13500" y="531"/>
                </a:moveTo>
                <a:arcTo wR="675" hR="531" stAng="10800000" swAng="-5400000"/>
                <a:lnTo>
                  <a:pt x="15525" y="1063"/>
                </a:lnTo>
                <a:arcTo wR="675" hR="531" stAng="16200000" swAng="5400000"/>
                <a:arcTo wR="675" hR="531" stAng="0" swAng="5400000"/>
                <a:lnTo>
                  <a:pt x="13500" y="2125"/>
                </a:lnTo>
              </a:path>
              <a:path fill="none" w="21600" h="21600">
                <a:moveTo>
                  <a:pt x="5400" y="1594"/>
                </a:moveTo>
                <a:lnTo>
                  <a:pt x="5400" y="19475"/>
                </a:lnTo>
              </a:path>
              <a:path fill="none" w="21600" h="21600">
                <a:moveTo>
                  <a:pt x="16200" y="1594"/>
                </a:moveTo>
                <a:lnTo>
                  <a:pt x="16200" y="19475"/>
                </a:lnTo>
              </a:path>
            </a:pathLst>
          </a:custGeom>
          <a:solidFill>
            <a:srgbClr val="fac090"/>
          </a:solidFill>
          <a:ln w="12600">
            <a:solidFill>
              <a:srgbClr val="8064a2"/>
            </a:solidFill>
            <a:miter/>
          </a:ln>
          <a:effectLst>
            <a:outerShdw dist="107932" dir="189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4"/>
          <p:cNvSpPr/>
          <p:nvPr/>
        </p:nvSpPr>
        <p:spPr>
          <a:xfrm>
            <a:off x="357120" y="2643120"/>
            <a:ext cx="3414960" cy="91440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ARIO D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RNADA  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ículo 2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4071960" y="571680"/>
            <a:ext cx="42433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SERÀ  DEFINIDO AL COMIENZO DE CADA AÑO LECTIVO POR EL RECTOR / DIRECTOR 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785880" y="4500720"/>
            <a:ext cx="2571840" cy="2000160"/>
          </a:xfrm>
          <a:prstGeom prst="irregularSeal1">
            <a:avLst/>
          </a:prstGeom>
          <a:solidFill>
            <a:srgbClr val="d99694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, 25 y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7572240" y="1143000"/>
            <a:ext cx="486000" cy="285840"/>
          </a:xfrm>
          <a:prstGeom prst="downArrow">
            <a:avLst>
              <a:gd name="adj1" fmla="val 50000"/>
              <a:gd name="adj2" fmla="val 39704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 rot="5400000">
            <a:off x="3733560" y="5410080"/>
            <a:ext cx="461880" cy="500040"/>
          </a:xfrm>
          <a:prstGeom prst="downArrow">
            <a:avLst>
              <a:gd name="adj1" fmla="val 33667"/>
              <a:gd name="adj2" fmla="val 53970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 rot="19071000">
            <a:off x="1728720" y="1095480"/>
            <a:ext cx="2508480" cy="795240"/>
          </a:xfrm>
          <a:custGeom>
            <a:avLst/>
            <a:gdLst>
              <a:gd name="textAreaLeft" fmla="*/ 438840 w 2508480"/>
              <a:gd name="textAreaRight" fmla="*/ 1818720 w 250848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3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4071960" y="1428840"/>
            <a:ext cx="428616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 CONFORMIDAD CON: NORMAS VIGENTES - PEI- PLAN DE ESTUDIOS Y DEBE CUMPLIRSE DURANTE LAS 40 SEMANAS FIJADAS EN EL CALENDARIO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4214880" y="2428920"/>
            <a:ext cx="42861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Debe permitir a los estudiantes el cumplimiento de las intensidades horarias mínimas, semanales y anu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De actividades pedagógicas relacionadas con las áreas obligatorias y fundamen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Asignaturas  optativas para cada uno de los grados de educación  básica y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4286160" y="5072040"/>
            <a:ext cx="407196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Parágrafo 1º, como mínimo el 80% (24) de las intensidades semanales y anuales serán dedicadas al desarrollo de ÀREAS OBLIGATORIAS Y FUNDAMENTALES  en concordancia con los artículos 23 y 31 de la Ley 115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Parágrafo 2º, establece como mínimo de trabajo con los estudiantes de 20 HORAS PARA  EL NIVEL DE PREESCO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4143240" y="4071960"/>
            <a:ext cx="41436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BÀSICAPRIMARIA – 25 H/S -1000 HORAS AÑ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SECUNDARIA Y MEDIA – 30 H/S - 1200 HORAS AÑ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Arial"/>
              </a:rPr>
              <a:t>Y SE CONTABILIZARÀN HORAS EFECTIVAS DE 60 MINU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7215120" y="2143080"/>
            <a:ext cx="486000" cy="285840"/>
          </a:xfrm>
          <a:prstGeom prst="downArrow">
            <a:avLst>
              <a:gd name="adj1" fmla="val 50000"/>
              <a:gd name="adj2" fmla="val 39704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7215120" y="3714840"/>
            <a:ext cx="486000" cy="357120"/>
          </a:xfrm>
          <a:prstGeom prst="downArrow">
            <a:avLst>
              <a:gd name="adj1" fmla="val 50000"/>
              <a:gd name="adj2" fmla="val 39704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6715080" y="4714920"/>
            <a:ext cx="486000" cy="357120"/>
          </a:xfrm>
          <a:prstGeom prst="downArrow">
            <a:avLst>
              <a:gd name="adj1" fmla="val 50000"/>
              <a:gd name="adj2" fmla="val 39704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4"/>
          <p:cNvSpPr/>
          <p:nvPr/>
        </p:nvSpPr>
        <p:spPr>
          <a:xfrm>
            <a:off x="357120" y="2643120"/>
            <a:ext cx="3414960" cy="91440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ÌODOS DE CL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ículo 3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4429080" y="3286080"/>
            <a:ext cx="42433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DEFINIDO POR EL RECTOR / DIRECTOR 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5286240" y="4500720"/>
            <a:ext cx="2928960" cy="2143080"/>
          </a:xfrm>
          <a:prstGeom prst="irregularSeal1">
            <a:avLst/>
          </a:prstGeom>
          <a:solidFill>
            <a:srgbClr val="d99694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` =  30 H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5` =  27.5 H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`  =  22.5 H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7786800" y="2857680"/>
            <a:ext cx="461880" cy="442800"/>
          </a:xfrm>
          <a:prstGeom prst="downArrow">
            <a:avLst>
              <a:gd name="adj1" fmla="val 33667"/>
              <a:gd name="adj2" fmla="val 54009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 rot="19071000">
            <a:off x="1728720" y="1095480"/>
            <a:ext cx="2508480" cy="795240"/>
          </a:xfrm>
          <a:custGeom>
            <a:avLst/>
            <a:gdLst>
              <a:gd name="textAreaLeft" fmla="*/ 438840 w 2508480"/>
              <a:gd name="textAreaRight" fmla="*/ 1818720 w 250848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4357800" y="714240"/>
            <a:ext cx="4286160" cy="214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0000"/>
                </a:solidFill>
                <a:latin typeface="Arial"/>
              </a:rPr>
              <a:t>Son las unidades de tiempo en que se divide la jornada escolar para realizar las actividades pedagógicas propias del desarrollo de las áreas obligatorias y fundamentales y de las asignaturas optativas contempladas en el plan de estudi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7429680" y="4071960"/>
            <a:ext cx="485640" cy="500040"/>
          </a:xfrm>
          <a:prstGeom prst="downArrow">
            <a:avLst>
              <a:gd name="adj1" fmla="val 50000"/>
              <a:gd name="adj2" fmla="val 39713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57120" y="5214960"/>
            <a:ext cx="424332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"/>
              </a:rPr>
              <a:t>SE CONTABILIZARÀN HORAS EFECTIVAS DE 60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 rot="5400000">
            <a:off x="4757040" y="5386320"/>
            <a:ext cx="486000" cy="571320"/>
          </a:xfrm>
          <a:prstGeom prst="downArrow">
            <a:avLst>
              <a:gd name="adj1" fmla="val 50000"/>
              <a:gd name="adj2" fmla="val 39675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4"/>
          <p:cNvSpPr/>
          <p:nvPr/>
        </p:nvSpPr>
        <p:spPr>
          <a:xfrm>
            <a:off x="357120" y="2643120"/>
            <a:ext cx="3414960" cy="91440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 CON VARIAS JORNADAS ESCOL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ículo 4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428760" y="3786120"/>
            <a:ext cx="4706640" cy="2786040"/>
          </a:xfrm>
          <a:prstGeom prst="irregularSeal1">
            <a:avLst/>
          </a:prstGeom>
          <a:solidFill>
            <a:srgbClr val="d99694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 HORAS/ 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 HORAS/ SEM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00 HORAS /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0"/>
          <p:cNvSpPr/>
          <p:nvPr/>
        </p:nvSpPr>
        <p:spPr>
          <a:xfrm rot="19071000">
            <a:off x="1728720" y="1095480"/>
            <a:ext cx="2508480" cy="795240"/>
          </a:xfrm>
          <a:custGeom>
            <a:avLst/>
            <a:gdLst>
              <a:gd name="textAreaLeft" fmla="*/ 438840 w 2508480"/>
              <a:gd name="textAreaRight" fmla="*/ 1818720 w 250848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4143240" y="857160"/>
            <a:ext cx="4286520" cy="235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Si  se trabaja con horas efectivas  de 60 minutos cada una / añ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6  horas / día X 5 días / semana  =  30 horas / sem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X 40 semanas / año  =  1.200 horas /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 rot="7834200">
            <a:off x="4792680" y="4099320"/>
            <a:ext cx="2508120" cy="795240"/>
          </a:xfrm>
          <a:custGeom>
            <a:avLst/>
            <a:gdLst>
              <a:gd name="textAreaLeft" fmla="*/ 438840 w 2508120"/>
              <a:gd name="textAreaRight" fmla="*/ 1818360 w 250812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4"/>
          <p:cNvSpPr/>
          <p:nvPr/>
        </p:nvSpPr>
        <p:spPr>
          <a:xfrm>
            <a:off x="357120" y="2643120"/>
            <a:ext cx="3414960" cy="91440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 CON VARIAS JORNADAS ESCOL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ículo 4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428760" y="3786120"/>
            <a:ext cx="4706640" cy="2786040"/>
          </a:xfrm>
          <a:prstGeom prst="irregularSeal1">
            <a:avLst/>
          </a:prstGeom>
          <a:solidFill>
            <a:srgbClr val="d99694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5` PERIODOS / 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.5 HORAS/ SEM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100 HORAS /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 rot="19071000">
            <a:off x="1728720" y="1095480"/>
            <a:ext cx="2508480" cy="795240"/>
          </a:xfrm>
          <a:custGeom>
            <a:avLst/>
            <a:gdLst>
              <a:gd name="textAreaLeft" fmla="*/ 438840 w 2508480"/>
              <a:gd name="textAreaRight" fmla="*/ 1818720 w 250848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143240" y="714240"/>
            <a:ext cx="4286520" cy="350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Si  se trabaja con periodos de 55  minutos cada uno/añ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55 minutos/1 periodo X6 periodos/ 1día X 5 días / 1semana 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27.5 horas / semana  X 40 semanas / añ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=  1.100 horas /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QUEDAN PENDIENTES 100 HORAS DE CL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 rot="9325200">
            <a:off x="4695480" y="4700160"/>
            <a:ext cx="2508120" cy="795240"/>
          </a:xfrm>
          <a:custGeom>
            <a:avLst/>
            <a:gdLst>
              <a:gd name="textAreaLeft" fmla="*/ 438840 w 2508120"/>
              <a:gd name="textAreaRight" fmla="*/ 1818360 w 250812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2dcd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4"/>
          <p:cNvSpPr/>
          <p:nvPr/>
        </p:nvSpPr>
        <p:spPr>
          <a:xfrm>
            <a:off x="357120" y="2643120"/>
            <a:ext cx="3414960" cy="914400"/>
          </a:xfrm>
          <a:prstGeom prst="ellipse">
            <a:avLst/>
          </a:prstGeom>
          <a:solidFill>
            <a:srgbClr val="ccc1da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 CON VARIAS JORNADAS ESCOL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ículo 4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28760" y="3786120"/>
            <a:ext cx="4706640" cy="2786040"/>
          </a:xfrm>
          <a:prstGeom prst="irregularSeal1">
            <a:avLst/>
          </a:prstGeom>
          <a:solidFill>
            <a:srgbClr val="d99694"/>
          </a:soli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` PERIODOS / 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2.5 HORAS/ SEM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0 HORAS /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 rot="19071000">
            <a:off x="1728720" y="1095480"/>
            <a:ext cx="2508480" cy="795240"/>
          </a:xfrm>
          <a:custGeom>
            <a:avLst/>
            <a:gdLst>
              <a:gd name="textAreaLeft" fmla="*/ 438840 w 2508480"/>
              <a:gd name="textAreaRight" fmla="*/ 1818720 w 250848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4286160" y="714240"/>
            <a:ext cx="4286520" cy="307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Si  se trabaja con periodos de 45  minutos cada uno/añ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45 minutos / día X 5 días / semana 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22.5 horas / semana X 40 semanas /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=  900 horas /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QUEDAN PENDIENTES 300 HORAS DE CL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 rot="7834200">
            <a:off x="4792680" y="4671000"/>
            <a:ext cx="2508120" cy="795240"/>
          </a:xfrm>
          <a:custGeom>
            <a:avLst/>
            <a:gdLst>
              <a:gd name="textAreaLeft" fmla="*/ 438840 w 2508120"/>
              <a:gd name="textAreaRight" fmla="*/ 1818360 w 250812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99694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20:26:34Z</dcterms:created>
  <dc:creator>Usuario</dc:creator>
  <dc:description/>
  <dc:language>en-US</dc:language>
  <cp:lastModifiedBy>MINISTERIO DE EDUCACION</cp:lastModifiedBy>
  <dcterms:modified xsi:type="dcterms:W3CDTF">2011-09-28T16:47:08Z</dcterms:modified>
  <cp:revision>294</cp:revision>
  <dc:subject/>
  <dc:title>Diapositiva 1</dc:title>
</cp:coreProperties>
</file>